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24596-07C2-4776-AD5B-236F998CA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1E7F3-5541-442D-95F9-3101C4F00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39E69-B28C-474C-98D8-95EE82B0B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EEE67-4667-4687-913B-EC11967E4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C9000-BB41-431D-8049-1E9496BAE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64B85-4291-4DA8-B807-749DDF83A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84F94-73E1-4E91-99BA-C20A75410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390B3-9E44-4CF4-AC91-33BAB2691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12E85-7F1D-4655-A449-724189A27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E7332-9AB7-46E6-8F63-A857DDC76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6463D-7294-4160-9E9E-1FA8A3DC0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543AE-3752-4FE2-9BAD-F09A778DB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24A3-F5FA-488F-841D-42A40B348AA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26431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Times New Roman"/>
              </a:rPr>
              <a:t>CONFIDI-PROF</a:t>
            </a:r>
            <a:endParaRPr b="0" lang="en-US" sz="4800" spc="-1" strike="noStrike">
              <a:solidFill>
                <a:srgbClr val="000000"/>
              </a:solidFill>
              <a:latin typeface="Arial"/>
            </a:endParaRPr>
          </a:p>
        </p:txBody>
      </p:sp>
      <p:sp>
        <p:nvSpPr>
          <p:cNvPr id="42" name="PlaceHolder 2"/>
          <p:cNvSpPr>
            <a:spLocks noGrp="1"/>
          </p:cNvSpPr>
          <p:nvPr>
            <p:ph type="subTitle"/>
          </p:nvPr>
        </p:nvSpPr>
        <p:spPr>
          <a:xfrm>
            <a:off x="1571760" y="3857760"/>
            <a:ext cx="6400800" cy="17524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F. GIANLUCA SELVI</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ACOLTA’ DI  ECONOMIA </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IVERSITA’ DEGLI STUDI DI BOLOG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BASILEA “2”</a:t>
            </a:r>
            <a:endParaRPr b="0" lang="en-US" sz="4400" spc="-1" strike="noStrike">
              <a:solidFill>
                <a:srgbClr val="000000"/>
              </a:solidFill>
              <a:latin typeface="Arial"/>
            </a:endParaRPr>
          </a:p>
        </p:txBody>
      </p:sp>
      <p:sp>
        <p:nvSpPr>
          <p:cNvPr id="60" name=""/>
          <p:cNvSpPr txBox="1"/>
          <p:nvPr/>
        </p:nvSpPr>
        <p:spPr>
          <a:xfrm>
            <a:off x="571680" y="157176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SEGNALAZIONI DEGLI INDICATORI BANCARI DI ANOMALIA CHE PENALIZZANO LE IMPRESE ABITUATE AD UNA GESTIONE DELLA TESORERIA AZIENDALE DEL TUTTO PRIVA DI PIANIFICAZIONE, APPROSSIMATIVA E SOPRATTUTTO NON CONCORDATA CON LE BANCHE AFFIDANTI</a:t>
            </a:r>
            <a:endParaRPr b="0" lang="en-US" sz="2000" spc="-1" strike="noStrike">
              <a:solidFill>
                <a:srgbClr val="000000"/>
              </a:solidFill>
              <a:latin typeface="Arial"/>
            </a:endParaRPr>
          </a:p>
          <a:p>
            <a:pPr marL="343080" indent="-343080" algn="just">
              <a:spcBef>
                <a:spcPts val="49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SSIBILITA’ DI UNA RIDUZIONE DEL CREDITO ACCORDATO</a:t>
            </a:r>
            <a:endParaRPr b="0" lang="en-US" sz="2000" spc="-1" strike="noStrike">
              <a:solidFill>
                <a:srgbClr val="000000"/>
              </a:solidFill>
              <a:latin typeface="Arial"/>
            </a:endParaRPr>
          </a:p>
          <a:p>
            <a:pPr marL="343080" indent="-343080" algn="just">
              <a:spcBef>
                <a:spcPts val="49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ARSO SUPPORTO PER LA CRESCITA E LO SVILUPPO</a:t>
            </a:r>
            <a:endParaRPr b="0" lang="en-US" sz="2000" spc="-1" strike="noStrike">
              <a:solidFill>
                <a:srgbClr val="000000"/>
              </a:solidFill>
              <a:latin typeface="Arial"/>
            </a:endParaRPr>
          </a:p>
          <a:p>
            <a:pPr marL="343080" indent="-343080" algn="just">
              <a:spcBef>
                <a:spcPts val="49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NUOVE REGOLE DI ADEGUATEZZA PATRIMONIALE DELLE BANCHE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BASILEA 2</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L PATRIMONIO DI VIGILANZA DEVE ESSERE TALE PER CUI, SE RAPPORTATO ALLE ATTIVITA’ PONDERATE PER LE TIPOLOGIE DI RISCHIO PREVISTE DALL’ACCORDO , NON DEVE ESSERE INFERIORE ALL’8%</a:t>
            </a:r>
            <a:endParaRPr b="0" lang="en-US" sz="2000" spc="-1" strike="noStrike">
              <a:solidFill>
                <a:srgbClr val="000000"/>
              </a:solidFill>
              <a:latin typeface="Arial"/>
            </a:endParaRPr>
          </a:p>
          <a:p>
            <a:pPr marL="325800" indent="-3258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Arial"/>
                <a:ea typeface="Times New Roman"/>
              </a:rPr>
              <a:t>PERTANTO BASILEA 2 PUR MANTENENDO LA DEFINIZIONE DI PATRIMONIO DI VIGILANZA ED I REQUISITI PATRIMONIALI MINIMI PER LO SVOLGIMENTO DELLA’TTIVITA’ DI CONCESSIONE DEL CREDITO NELLA MISURA DELL’8%, INTRODUCE LA POSSIBILITA’ DI CALCOLARE IN MANIERA PIU’</a:t>
            </a:r>
            <a:endParaRPr b="0" lang="en-US" sz="2000" spc="-1" strike="noStrike">
              <a:solidFill>
                <a:srgbClr val="000000"/>
              </a:solidFill>
              <a:latin typeface="Arial"/>
            </a:endParaRPr>
          </a:p>
          <a:p>
            <a:pPr marL="325800" indent="-3258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325800" indent="-3258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63" name="Object 2"/>
              <p:cNvSpPr txBox="1"/>
              <p:nvPr/>
            </p:nvSpPr>
            <p:spPr>
              <a:xfrm>
                <a:off x="4514760" y="3314880"/>
                <a:ext cx="114480" cy="2286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4" name="Object 3"/>
              <p:cNvSpPr txBox="1"/>
              <p:nvPr/>
            </p:nvSpPr>
            <p:spPr>
              <a:xfrm>
                <a:off x="4514760" y="3314880"/>
                <a:ext cx="114480" cy="228600"/>
              </a:xfrm>
              <a:prstGeom prst="rect">
                <a:avLst/>
              </a:prstGeom>
            </p:spPr>
            <p:txBody>
              <a:bodyPr/>
              <a:p>
                <a14:m>
                  <m:oMath xmlns:m="http://schemas.openxmlformats.org/officeDocument/2006/math"/>
                </a14:m>
              </a:p>
            </p:txBody>
          </p:sp>
        </mc:Choice>
        <mc:Fallback/>
      </mc:AlternateContent>
      <p:sp>
        <p:nvSpPr>
          <p:cNvPr id="6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4" descr=""/>
          <p:cNvPicPr/>
          <p:nvPr/>
        </p:nvPicPr>
        <p:blipFill>
          <a:blip r:embed="rId1"/>
          <a:stretch/>
        </p:blipFill>
        <p:spPr>
          <a:xfrm>
            <a:off x="2357280" y="3571920"/>
            <a:ext cx="4329360" cy="42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BASILEA “2”</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RECISA LE ATTIVITA’ PONDERATE PER IL RISCHIO DI CREDITO, DEL RISCHIO DI MERCATO E DEL RISCHIO OPERATIVO.</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 QUESTO CONTESTO , IL NUOVO ACCORDO SUL CAPITALE DI BASILEA “2” RICONOSCE ALLE GARANZIE UN RUOLO PRIMARIO NELLA RIDUZIONE DEL REQUISITO PATRIMONIALE, TRA CUI QUELLE DEI CONFIDI</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000000"/>
                </a:solidFill>
                <a:latin typeface="Arial"/>
              </a:rPr>
              <a:t>LEGGE QUADRO SUI CONFIDI”</a:t>
            </a:r>
            <a:br>
              <a:rPr sz="3200"/>
            </a:br>
            <a:r>
              <a:rPr b="1" lang="it-IT" sz="3200" spc="-1" strike="noStrike">
                <a:solidFill>
                  <a:srgbClr val="000000"/>
                </a:solidFill>
                <a:latin typeface="Arial"/>
              </a:rPr>
              <a:t>CONFIDI “ 106”</a:t>
            </a:r>
            <a:endParaRPr b="0" lang="en-US" sz="32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L MODELLO DEI CONFIDI “106” FORMALIZZA, DI FATTO, LA STRUTTURA ATTUALE DI GRAN PARTE DEI CONFIDI CON COMPETENZE LEGATE ESCLUSIVAMENTE ALLA CONCESSIONE DI GARANZIE SUI FIDI E AI RELATIVI SERVIZI DI ASSISTENZA.</a:t>
            </a:r>
            <a:endParaRPr b="0" lang="en-US" sz="2000" spc="-1" strike="noStrike">
              <a:solidFill>
                <a:srgbClr val="000000"/>
              </a:solidFill>
              <a:latin typeface="Arial"/>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 CONSORZI E LE COOPERATIVE CHE OPTANO PER QUESTA SOLUZIONE SONO ISCRITTI NELL’APPOSITA SEZIONE DELL’ELENCO PREVISTO DALL’ART.106 DEL TUB E NON SONO SOGGETTI ALLA VIGILANZA DELLA BANCA D’ITALIA.</a:t>
            </a:r>
            <a:endParaRPr b="0" lang="en-US" sz="2000" spc="-1" strike="noStrike">
              <a:solidFill>
                <a:srgbClr val="000000"/>
              </a:solidFill>
              <a:latin typeface="Arial"/>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L PATRIMONIO NETTO, COMPRENSIVO DEI FONDI RISCHI INDISPONIBILI, NON PUO’ ESSERE INFERIORE A 250.000 ED UN CAPITALE SOCIALE NON INFERIORE A 100.000 EURO</a:t>
            </a:r>
            <a:endParaRPr b="0" lang="en-US" sz="2000" spc="-1" strike="noStrike">
              <a:solidFill>
                <a:srgbClr val="000000"/>
              </a:solidFill>
              <a:latin typeface="Arial"/>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000000"/>
                </a:solidFill>
                <a:latin typeface="Arial"/>
              </a:rPr>
              <a:t>LEGGE QUADRO SUI CONFIDI”</a:t>
            </a:r>
            <a:br>
              <a:rPr sz="3200"/>
            </a:br>
            <a:r>
              <a:rPr b="1" lang="it-IT" sz="3200" spc="-1" strike="noStrike">
                <a:solidFill>
                  <a:srgbClr val="000000"/>
                </a:solidFill>
                <a:latin typeface="Arial"/>
              </a:rPr>
              <a:t>CONFIDI “ 106”</a:t>
            </a:r>
            <a:endParaRPr b="0" lang="en-US" sz="32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QUESTA TIPOLOGIA DI CONFIDI E’ DESTINATA A VEDER RIDIMENSIONATO NEL MEDIO PERIODO IL PROPRIO PESO SUL MERCATO DELLE GARANZIE, PERCHE’  LA GARANZIA RILASCIATA DA UN CONFIDI 106 PUR ESSENDO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DIRETTA, ESPLICITA, INCONDIZIONATA,IRREVOCABILE, A PRIMA RICHIESTA O SUSSIDIARI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u="sng">
                <a:solidFill>
                  <a:srgbClr val="000000"/>
                </a:solidFill>
                <a:uFillTx/>
                <a:latin typeface="Arial"/>
              </a:rPr>
              <a:t>NON CONSENTE ALCUNA PONDERAZIONE DEL RISCHIO ALLA BANC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000000"/>
                </a:solidFill>
                <a:latin typeface="Arial"/>
              </a:rPr>
              <a:t>LEGGE QUADRO SUI CONFIDI”</a:t>
            </a:r>
            <a:br>
              <a:rPr sz="3200"/>
            </a:br>
            <a:r>
              <a:rPr b="1" lang="it-IT" sz="3200" spc="-1" strike="noStrike">
                <a:solidFill>
                  <a:srgbClr val="000000"/>
                </a:solidFill>
                <a:latin typeface="Arial"/>
              </a:rPr>
              <a:t>CONFIDI “ 107”</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L SECONDO MODELLO PREVEDE IL PASSAGGIO DALLA DELL’ELENCO 106 A QUELLO PREVISTO DALL’ART.107 DEL TUB.</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REQUISITI MINIMI</a:t>
            </a:r>
            <a:endParaRPr b="0" lang="en-US" sz="20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i="1" lang="it-IT" sz="1600" spc="-1" strike="noStrike" u="sng">
                <a:solidFill>
                  <a:srgbClr val="000000"/>
                </a:solidFill>
                <a:uFillTx/>
                <a:latin typeface="Arial"/>
              </a:rPr>
              <a:t>IL DECRETO DEL MINISTERO DELL’ECONOMIA E FINANZA DEL NOVEMBRE 2007 PREVEDE CHE I CONFIDI AL SUPERAMENTO DEI 75 MILIONI DI EURO DEL VOLUME DELLA LORO ATTIVITA’ FINANZIARIA SIANO OBBLIGATI AD ISCRIVERSI ALL’ELENCO SPECIALE 107 E A RISPETTARE I REQUISITI PREVISTI DALLA BANCA D’ITALIA PER GLI INTERMEDIARI VIGILATI </a:t>
            </a:r>
            <a:endParaRPr b="0" lang="en-US" sz="16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000000"/>
                </a:solidFill>
                <a:latin typeface="Arial"/>
              </a:rPr>
              <a:t>LEGGE QUADRO SUI CONFIDI”</a:t>
            </a:r>
            <a:br>
              <a:rPr sz="3200"/>
            </a:br>
            <a:r>
              <a:rPr b="1" lang="it-IT" sz="3200" spc="-1" strike="noStrike">
                <a:solidFill>
                  <a:srgbClr val="000000"/>
                </a:solidFill>
                <a:latin typeface="Arial"/>
              </a:rPr>
              <a:t>CONFIDI “ 107”</a:t>
            </a:r>
            <a:endParaRPr b="0" lang="en-US" sz="32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fontScale="97000"/>
          </a:bodyPr>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ADEGUATEZZA PATRIMONIALE</a:t>
            </a:r>
            <a:endParaRPr b="0" lang="en-US" sz="2000" spc="-1" strike="noStrike">
              <a:solidFill>
                <a:srgbClr val="000000"/>
              </a:solidFill>
              <a:latin typeface="Arial"/>
            </a:endParaRPr>
          </a:p>
          <a:p>
            <a:pPr marL="332640" indent="-3326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i="1" lang="it-IT" sz="1600" spc="-1" strike="noStrike" u="sng">
                <a:solidFill>
                  <a:srgbClr val="000000"/>
                </a:solidFill>
                <a:uFillTx/>
                <a:latin typeface="Arial"/>
              </a:rPr>
              <a:t>PATRIMONIO DI VIGILANZA MINIMO PARI AL 6% DELL’ATTIVITA’ DI RISCHIO E QUINDI L’UTILIZZO DI UN MOLTIPLICATORE  PARI AD 1 A 16,6 CONTRARIAMENTE A QUELLO UTILIZZATO DAI CONFIDI 106 CHE PUO’ ARRIVARE AD 1 A 20 E OLTRE</a:t>
            </a:r>
            <a:endParaRPr b="0" lang="en-US" sz="1600" spc="-1" strike="noStrike">
              <a:solidFill>
                <a:srgbClr val="000000"/>
              </a:solidFill>
              <a:latin typeface="Arial"/>
            </a:endParaRPr>
          </a:p>
          <a:p>
            <a:pPr marL="332640" indent="-3326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2000" spc="-1" strike="noStrike">
                <a:solidFill>
                  <a:srgbClr val="000000"/>
                </a:solidFill>
                <a:latin typeface="Arial"/>
              </a:rPr>
              <a:t>ADEGUATEZZA ORGANIZZATIVA</a:t>
            </a:r>
            <a:endParaRPr b="0" lang="en-US" sz="2000" spc="-1" strike="noStrike">
              <a:solidFill>
                <a:srgbClr val="000000"/>
              </a:solidFill>
              <a:latin typeface="Arial"/>
            </a:endParaRPr>
          </a:p>
          <a:p>
            <a:pPr marL="332640" indent="-3326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i="1" lang="it-IT" sz="1600" spc="-1" strike="noStrike" u="sng">
                <a:solidFill>
                  <a:srgbClr val="000000"/>
                </a:solidFill>
                <a:uFillTx/>
                <a:latin typeface="Arial"/>
              </a:rPr>
              <a:t>DEFINIZIONE ,IMPLEMENTAZIONE  E ALLINEAMENTO SU STANDARD DI VIGILANZA DELL’ORGANIZZAZIONE, DEI PROCESSI OPERATIVI, DEL SISTEMA DEI CONTROLLI INTERNI E DEI SISTEMI INFORMATIVI.</a:t>
            </a:r>
            <a:endParaRPr b="0" lang="en-US" sz="1600" spc="-1" strike="noStrike">
              <a:solidFill>
                <a:srgbClr val="000000"/>
              </a:solidFill>
              <a:latin typeface="Arial"/>
            </a:endParaRPr>
          </a:p>
          <a:p>
            <a:pPr marL="332640" indent="-3326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r>
              <a:rPr b="1" i="1" lang="it-IT" sz="1600" spc="-1" strike="noStrike" u="sng">
                <a:solidFill>
                  <a:srgbClr val="000000"/>
                </a:solidFill>
                <a:uFillTx/>
                <a:latin typeface="Arial"/>
              </a:rPr>
              <a:t>SARA’ QUINDI NECESSARIO ISTITUIRE L’AREA COMPLIANCE, IL SERVIZIO RISK MANAGEMENTE E QUELLO RIGUARDANTE L’INTERNAL AUDITING </a:t>
            </a:r>
            <a:endParaRPr b="0" lang="en-US" sz="1600" spc="-1" strike="noStrike">
              <a:solidFill>
                <a:srgbClr val="000000"/>
              </a:solidFill>
              <a:latin typeface="Arial"/>
            </a:endParaRPr>
          </a:p>
          <a:p>
            <a:pPr marL="332640" indent="-3326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	</a:t>
            </a:r>
            <a:endParaRPr b="0" lang="en-US" sz="4000" spc="-1" strike="noStrike">
              <a:solidFill>
                <a:srgbClr val="000000"/>
              </a:solidFill>
              <a:latin typeface="Arial"/>
            </a:endParaRPr>
          </a:p>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000000"/>
                </a:solidFill>
                <a:latin typeface="Arial"/>
              </a:rPr>
              <a:t>LEGGE QUADRO SUI CONFIDI”</a:t>
            </a:r>
            <a:br>
              <a:rPr sz="3200"/>
            </a:br>
            <a:r>
              <a:rPr b="1" lang="it-IT" sz="3200" spc="-1" strike="noStrike">
                <a:solidFill>
                  <a:srgbClr val="000000"/>
                </a:solidFill>
                <a:latin typeface="Arial"/>
              </a:rPr>
              <a:t>CONFIDI “ 107”</a:t>
            </a:r>
            <a:endParaRPr b="0" lang="en-US" sz="32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VALORE DELLA GARANZIA RILASCIATA DA UN CONFIDI 107</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	</a:t>
            </a:r>
            <a:r>
              <a:rPr b="1" i="1" lang="it-IT" sz="1600" spc="-1" strike="noStrike" u="sng">
                <a:solidFill>
                  <a:srgbClr val="000000"/>
                </a:solidFill>
                <a:uFillTx/>
                <a:latin typeface="Arial"/>
              </a:rPr>
              <a:t>DIRETTA, ESPLICITA, INCONDIZIONATA, IRREVOCABILE E A PRIMA RICHIESTA</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r>
              <a:rPr b="1" i="1" lang="it-IT" sz="1600" spc="-1" strike="noStrike" u="sng">
                <a:solidFill>
                  <a:srgbClr val="000000"/>
                </a:solidFill>
                <a:uFillTx/>
                <a:latin typeface="Arial"/>
              </a:rPr>
              <a:t>CONSENTE UNA PONDERAZIONE DEL RISCHIO ALLA BANCA PARI AL 2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000000"/>
                </a:solidFill>
                <a:latin typeface="Arial"/>
              </a:rPr>
              <a:t>LEGGE QUADRO SUI CONFIDI”</a:t>
            </a:r>
            <a:br>
              <a:rPr sz="3200"/>
            </a:br>
            <a:r>
              <a:rPr b="1" lang="it-IT" sz="3200" spc="-1" strike="noStrike">
                <a:solidFill>
                  <a:srgbClr val="000000"/>
                </a:solidFill>
                <a:latin typeface="Arial"/>
              </a:rPr>
              <a:t>BANCHE DI GARANZIA</a:t>
            </a:r>
            <a:endParaRPr b="0" lang="en-US" sz="32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7000"/>
          </a:bodyPr>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IL TERZO MODELLO E’ QUELLO DI BANCA DI GARANZIA</a:t>
            </a:r>
            <a:endParaRPr b="0" lang="en-US" sz="2000" spc="-1" strike="noStrike">
              <a:solidFill>
                <a:srgbClr val="000000"/>
              </a:solidFill>
              <a:latin typeface="Arial"/>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L TERZO MODELLO PREVEDE INFINE LA POSSIBILITA’ PER I CONFIDI DI TRASFORMARSI IN BANCA DI GARANZIA, SECONDO IL MODELLO DI UNA BANCA DI CREDITO COOPERATIVO O DI BANCA POPOLARE.</a:t>
            </a:r>
            <a:endParaRPr b="0" lang="en-US" sz="2000" spc="-1" strike="noStrike">
              <a:solidFill>
                <a:srgbClr val="000000"/>
              </a:solidFill>
              <a:latin typeface="Arial"/>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L MOMENTO NON PARE CHE QUESTO MODELLO OFFRA VANTAGGI APPREZZABILI RISPETTO ALLA FATTISPECIE DEI CONFIDI 107, TRANNE LA POSSIBILITA’ DI RILASCIARE DIRETTAMENTE FIDEIUSSIONI BANCARIE</a:t>
            </a:r>
            <a:endParaRPr b="0" lang="en-US" sz="2000" spc="-1" strike="noStrike">
              <a:solidFill>
                <a:srgbClr val="000000"/>
              </a:solidFill>
              <a:latin typeface="Arial"/>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 ITALIA ESISTONO SOLO 3 BANCHE DI GARANZIA:</a:t>
            </a:r>
            <a:endParaRPr b="0" lang="en-US" sz="2000" spc="-1" strike="noStrike">
              <a:solidFill>
                <a:srgbClr val="000000"/>
              </a:solidFill>
              <a:latin typeface="Arial"/>
            </a:endParaRPr>
          </a:p>
          <a:p>
            <a:pPr marL="332640" indent="-3326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i="1" lang="it-IT" sz="1600" spc="-1" strike="noStrike" u="sng">
                <a:solidFill>
                  <a:srgbClr val="000000"/>
                </a:solidFill>
                <a:uFillTx/>
                <a:latin typeface="Arial"/>
              </a:rPr>
              <a:t>BANCA POPOLARE DI GARANZIA ( già INTERCONFIDI EST)</a:t>
            </a:r>
            <a:endParaRPr b="0" lang="en-US" sz="1600" spc="-1" strike="noStrike">
              <a:solidFill>
                <a:srgbClr val="000000"/>
              </a:solidFill>
              <a:latin typeface="Arial"/>
            </a:endParaRPr>
          </a:p>
          <a:p>
            <a:pPr marL="332640" indent="-3326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r>
              <a:rPr b="1" i="1" lang="it-IT" sz="1600" spc="-1" strike="noStrike" u="sng">
                <a:solidFill>
                  <a:srgbClr val="000000"/>
                </a:solidFill>
                <a:uFillTx/>
                <a:latin typeface="Arial"/>
              </a:rPr>
              <a:t>BANCA IMPRESA LAZIO ( BIL)  </a:t>
            </a:r>
            <a:endParaRPr b="0" lang="en-US" sz="1600" spc="-1" strike="noStrike">
              <a:solidFill>
                <a:srgbClr val="000000"/>
              </a:solidFill>
              <a:latin typeface="Arial"/>
            </a:endParaRPr>
          </a:p>
          <a:p>
            <a:pPr marL="332640" indent="-3326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r>
              <a:rPr b="1" i="1" lang="it-IT" sz="1600" spc="-1" strike="noStrike" u="sng">
                <a:solidFill>
                  <a:srgbClr val="000000"/>
                </a:solidFill>
                <a:uFillTx/>
                <a:latin typeface="Arial"/>
              </a:rPr>
              <a:t>FIDI TOSCA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ONDO DI GARANZIA PER LE PMI NOVITA’</a:t>
            </a:r>
            <a:endParaRPr b="0" lang="en-US" sz="32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L FONDO  DI GARANZIA PER LE PMI, GESTITO DAL MEDIOCREDITO CENTRALE ( GRUPPO UNICREDIT), SI OCCUPA DI CONTROGARANZIA E GARANZIA DIRETTA, LA PRIMA A FAVORE DEI CONFIDI E LA SECONDA A BENEFICIO DELLE BANCH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SCOPO DEL FONDO</a:t>
            </a:r>
            <a:endParaRPr b="0" lang="en-US" sz="20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r>
              <a:rPr b="1" i="1" lang="it-IT" sz="1600" spc="-1" strike="noStrike" u="sng">
                <a:solidFill>
                  <a:srgbClr val="000000"/>
                </a:solidFill>
                <a:uFillTx/>
                <a:latin typeface="Arial"/>
              </a:rPr>
              <a:t>AGEVOLARE INDIRETTAMENTE L’ACCESSO AL CREDITO DELLE PMI, GRAZIE ALLA PROPRIA ATTIVITA’ DI CONTROGARANTE VERSO IL SISTEMA DEGLI ORGANISMI DI GARANZIA E IL PROPRIO SUPPORTO DIRETTO ALLE BANCHE</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 SOSTEGNO DELLA CRESCITA E DEL SUPPORTO </a:t>
            </a:r>
            <a:br>
              <a:rPr sz="2400"/>
            </a:br>
            <a:r>
              <a:rPr b="1" lang="it-IT" sz="2400" spc="-1" strike="noStrike">
                <a:solidFill>
                  <a:srgbClr val="000000"/>
                </a:solidFill>
                <a:latin typeface="Arial"/>
              </a:rPr>
              <a:t>ALLE PMI ITALIANE</a:t>
            </a:r>
            <a:endParaRPr b="0" lang="en-US" sz="2400" spc="-1" strike="noStrike">
              <a:solidFill>
                <a:srgbClr val="000000"/>
              </a:solidFill>
              <a:latin typeface="Arial"/>
            </a:endParaRPr>
          </a:p>
        </p:txBody>
      </p:sp>
      <p:pic>
        <p:nvPicPr>
          <p:cNvPr id="44" name="Rectangle 3" descr=""/>
          <p:cNvPicPr/>
          <p:nvPr/>
        </p:nvPicPr>
        <p:blipFill>
          <a:blip r:embed="rId1"/>
          <a:stretch/>
        </p:blipFill>
        <p:spPr>
          <a:xfrm>
            <a:off x="450720" y="1596960"/>
            <a:ext cx="8302680" cy="7034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ESSAGGIO A TUTTI I </a:t>
            </a:r>
            <a:br>
              <a:rPr sz="3200"/>
            </a:br>
            <a:r>
              <a:rPr b="0" lang="it-IT" sz="3200" spc="-1" strike="noStrike">
                <a:solidFill>
                  <a:srgbClr val="000000"/>
                </a:solidFill>
                <a:latin typeface="Arial"/>
              </a:rPr>
              <a:t>COMMERCIALISTI</a:t>
            </a:r>
            <a:endParaRPr b="0" lang="en-US" sz="32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fontScale="73000"/>
          </a:bodyPr>
          <a:p>
            <a:pPr marL="250200" indent="-250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DIVENTA FONDAMENTALE UNA RIVISITAZIONE DEL RUOLO </a:t>
            </a:r>
            <a:endParaRPr b="0" lang="en-US" sz="2000" spc="-1" strike="noStrike">
              <a:solidFill>
                <a:srgbClr val="000000"/>
              </a:solidFill>
              <a:latin typeface="Arial"/>
            </a:endParaRPr>
          </a:p>
          <a:p>
            <a:pPr marL="250200" indent="-250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DEL COMMERCIALISTA O DEL CONSULENTE DELL’IMPRESA</a:t>
            </a:r>
            <a:endParaRPr b="0" lang="en-US" sz="2000" spc="-1" strike="noStrike">
              <a:solidFill>
                <a:srgbClr val="000000"/>
              </a:solidFill>
              <a:latin typeface="Arial"/>
            </a:endParaRPr>
          </a:p>
          <a:p>
            <a:pPr marL="250200" indent="-250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RATING ADVISORY)</a:t>
            </a:r>
            <a:endParaRPr b="0" lang="en-US" sz="2000" spc="-1" strike="noStrike">
              <a:solidFill>
                <a:srgbClr val="000000"/>
              </a:solidFill>
              <a:latin typeface="Arial"/>
            </a:endParaRPr>
          </a:p>
          <a:p>
            <a:pPr marL="250200" indent="-250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OSA CHIEDERA’ IN FUTURO UN’AZIENDA AL PRORPIO COMMERCILISTA O AL PROPRIO CONSULENTE?</a:t>
            </a:r>
            <a:endParaRPr b="0" lang="en-US" sz="2000" spc="-1" strike="noStrike">
              <a:solidFill>
                <a:srgbClr val="000000"/>
              </a:solidFill>
              <a:latin typeface="Arial"/>
            </a:endParaRPr>
          </a:p>
          <a:p>
            <a:pPr marL="250200" indent="-250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250200" indent="-250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Arial"/>
              </a:rPr>
              <a:t>UN SOS A 360°</a:t>
            </a:r>
            <a:endParaRPr b="0" lang="en-US" sz="2000" spc="-1" strike="noStrike">
              <a:solidFill>
                <a:srgbClr val="000000"/>
              </a:solidFill>
              <a:latin typeface="Arial"/>
            </a:endParaRPr>
          </a:p>
          <a:p>
            <a:pPr marL="250200" indent="-250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0200" indent="-250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i="1" lang="it-IT" sz="1600" spc="-1" strike="noStrike" u="sng">
                <a:solidFill>
                  <a:srgbClr val="000000"/>
                </a:solidFill>
                <a:uFillTx/>
                <a:latin typeface="Arial"/>
              </a:rPr>
              <a:t>CHECK UP AZIENDALE FONDATO SULLA LOGICA DEI  RATINGS</a:t>
            </a:r>
            <a:endParaRPr b="0" lang="en-US" sz="1600" spc="-1" strike="noStrike">
              <a:solidFill>
                <a:srgbClr val="000000"/>
              </a:solidFill>
              <a:latin typeface="Arial"/>
            </a:endParaRPr>
          </a:p>
          <a:p>
            <a:pPr marL="250200" indent="-250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r>
              <a:rPr b="1" i="1" lang="it-IT" sz="1600" spc="-1" strike="noStrike" u="sng">
                <a:solidFill>
                  <a:srgbClr val="000000"/>
                </a:solidFill>
                <a:uFillTx/>
                <a:latin typeface="Arial"/>
              </a:rPr>
              <a:t>ANALISI FINANZIARIA, ANALISI ANDAMENTALE, ANALISI  QUALITATIVA</a:t>
            </a:r>
            <a:endParaRPr b="0" lang="en-US" sz="1600" spc="-1" strike="noStrike">
              <a:solidFill>
                <a:srgbClr val="000000"/>
              </a:solidFill>
              <a:latin typeface="Arial"/>
            </a:endParaRPr>
          </a:p>
          <a:p>
            <a:pPr marL="250200" indent="-250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r>
              <a:rPr b="1" i="1" lang="it-IT" sz="1600" spc="-1" strike="noStrike" u="sng">
                <a:solidFill>
                  <a:srgbClr val="000000"/>
                </a:solidFill>
                <a:uFillTx/>
                <a:latin typeface="Arial"/>
              </a:rPr>
              <a:t>PREDISPOSIZIONE  DI UNO STRUMENTO FONDAMENTALE ALLA BASE DEL RAPPORTO BANCA-IMPRESA : IL BUSINESS-PLAN</a:t>
            </a:r>
            <a:endParaRPr b="0" lang="en-US" sz="1600" spc="-1" strike="noStrike">
              <a:solidFill>
                <a:srgbClr val="000000"/>
              </a:solidFill>
              <a:latin typeface="Arial"/>
            </a:endParaRPr>
          </a:p>
          <a:p>
            <a:pPr marL="250200" indent="-250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r>
              <a:rPr b="1" i="1" lang="it-IT" sz="1600" spc="-1" strike="noStrike" u="sng">
                <a:solidFill>
                  <a:srgbClr val="000000"/>
                </a:solidFill>
                <a:uFillTx/>
                <a:latin typeface="Arial"/>
              </a:rPr>
              <a:t>GESTIONE PROATTIVA DEI PROBLEMI AZIENDALI</a:t>
            </a:r>
            <a:endParaRPr b="0" lang="en-US" sz="1600" spc="-1" strike="noStrike">
              <a:solidFill>
                <a:srgbClr val="000000"/>
              </a:solidFill>
              <a:latin typeface="Arial"/>
            </a:endParaRPr>
          </a:p>
          <a:p>
            <a:pPr marL="250200" indent="-250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0200" indent="-250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0200" indent="-250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250200" indent="-250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0200" indent="-250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endParaRPr b="0" lang="en-US" sz="2000" spc="-1" strike="noStrike">
              <a:solidFill>
                <a:srgbClr val="000000"/>
              </a:solidFill>
              <a:latin typeface="Arial"/>
            </a:endParaRPr>
          </a:p>
          <a:p>
            <a:pPr marL="250200" indent="-250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3200" spc="-1" strike="noStrike">
                <a:solidFill>
                  <a:srgbClr val="000000"/>
                </a:solidFill>
                <a:latin typeface="Arial"/>
              </a:rPr>
              <a:t>LA CATEGORIA DELLE LIBERE </a:t>
            </a:r>
            <a:br>
              <a:rPr sz="3200"/>
            </a:br>
            <a:r>
              <a:rPr b="0" lang="it-IT" sz="3200" spc="-1" strike="noStrike">
                <a:solidFill>
                  <a:srgbClr val="000000"/>
                </a:solidFill>
                <a:latin typeface="Arial"/>
              </a:rPr>
              <a:t>PROFESSIONI</a:t>
            </a:r>
            <a:br>
              <a:rPr sz="3200"/>
            </a:br>
            <a:r>
              <a:rPr b="0" lang="it-IT" sz="3200" spc="-1" strike="noStrike">
                <a:solidFill>
                  <a:srgbClr val="000000"/>
                </a:solidFill>
                <a:latin typeface="Arial"/>
              </a:rPr>
              <a:t>DEVE DISPORRE DI UN PROPRIO</a:t>
            </a:r>
            <a:br>
              <a:rPr sz="3200"/>
            </a:br>
            <a:r>
              <a:rPr b="0" lang="it-IT" sz="3200" spc="-1" strike="noStrike">
                <a:solidFill>
                  <a:srgbClr val="000000"/>
                </a:solidFill>
                <a:latin typeface="Arial"/>
              </a:rPr>
              <a:t>CONFIDI</a:t>
            </a:r>
            <a:endParaRPr b="0" lang="en-US" sz="3200" spc="-1" strike="noStrike">
              <a:solidFill>
                <a:srgbClr val="000000"/>
              </a:solidFill>
              <a:latin typeface="Arial"/>
            </a:endParaRPr>
          </a:p>
        </p:txBody>
      </p:sp>
      <p:sp>
        <p:nvSpPr>
          <p:cNvPr id="86" name=""/>
          <p:cNvSpPr txBox="1"/>
          <p:nvPr/>
        </p:nvSpPr>
        <p:spPr>
          <a:xfrm>
            <a:off x="457200" y="2133720"/>
            <a:ext cx="8229600" cy="3992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A CATEGORIA E’ SEMPRE STATA SPROVVISTA DI UN SERVIZIO QUALIFICATO PER L’ASSISTENZA E IL SUPPORTO FIDEIUSSORIO A FAVORE DELLE IMPRESE DEL PORTAFOGLIO CLIENTI DEL PROFESSIONIST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 MODO PARTICOLARE PER LA CATEGORIA DEI COMMERCIALISTI E DEI CONSULENTI DEL LAVORO IL BINOMIO  RAPPRESENTATO  DA  CONFIDI - PROFESSIONISTA,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DOVREBBE DIVENTARE IL PUNTO FONDAMENTALE DELLA MISSION DEL RATING ADVIS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3200" spc="-1" strike="noStrike">
                <a:solidFill>
                  <a:srgbClr val="000000"/>
                </a:solidFill>
                <a:latin typeface="Arial"/>
              </a:rPr>
              <a:t>LA CATEGORIA DELLE LIBERE </a:t>
            </a:r>
            <a:br>
              <a:rPr sz="3200"/>
            </a:br>
            <a:r>
              <a:rPr b="0" lang="it-IT" sz="3200" spc="-1" strike="noStrike">
                <a:solidFill>
                  <a:srgbClr val="000000"/>
                </a:solidFill>
                <a:latin typeface="Arial"/>
              </a:rPr>
              <a:t>PROFESSIONI</a:t>
            </a:r>
            <a:br>
              <a:rPr sz="3200"/>
            </a:br>
            <a:r>
              <a:rPr b="0" lang="it-IT" sz="3200" spc="-1" strike="noStrike">
                <a:solidFill>
                  <a:srgbClr val="000000"/>
                </a:solidFill>
                <a:latin typeface="Arial"/>
              </a:rPr>
              <a:t>DEVE DISPORRE DI UN PROPRIO</a:t>
            </a:r>
            <a:br>
              <a:rPr sz="3200"/>
            </a:br>
            <a:r>
              <a:rPr b="0" lang="it-IT" sz="3200" spc="-1" strike="noStrike">
                <a:solidFill>
                  <a:srgbClr val="000000"/>
                </a:solidFill>
                <a:latin typeface="Arial"/>
              </a:rPr>
              <a:t>CONFIDI</a:t>
            </a:r>
            <a:endParaRPr b="0" lang="en-US" sz="32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L FINE DI PERVENIRE AD UN RASSICURANTE SOSTEGNO NELLA VALUTAZIONE DEL MERITO CREDITIZIO, IMPLEMENTANDO UN VALIDO TENTATIVO DI VINCERE LA SFIDA DELLO SVILUPPO E DELLA CRESCITA IN UN MOMENTO SEGNATO DA DIFFICOLTA’ STRAORDINARIE COME QUESTO</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ORSO DI FORMAZIONE</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L NUOVO MERITO CREDITIZIO E GLI EFFETTI SULLA FINANZA D’IMPRES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r>
              <a:rPr b="1" i="1" lang="it-IT" sz="1600" spc="-1" strike="noStrike" u="sng">
                <a:solidFill>
                  <a:srgbClr val="000000"/>
                </a:solidFill>
                <a:uFillTx/>
                <a:latin typeface="Arial"/>
              </a:rPr>
              <a:t>ASPETTI ED EVOLUZIONI DEI MERCATI FINANZIARI</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r>
              <a:rPr b="1" i="1" lang="it-IT" sz="1600" spc="-1" strike="noStrike" u="sng">
                <a:solidFill>
                  <a:srgbClr val="000000"/>
                </a:solidFill>
                <a:uFillTx/>
                <a:latin typeface="Arial"/>
              </a:rPr>
              <a:t>I SISTEMI DI RATING ADOTTATI DALLE BANCH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r>
              <a:rPr b="1" i="1" lang="it-IT" sz="1600" spc="-1" strike="noStrike" u="sng">
                <a:solidFill>
                  <a:srgbClr val="000000"/>
                </a:solidFill>
                <a:uFillTx/>
                <a:latin typeface="Arial"/>
              </a:rPr>
              <a:t>GLI  ELEMENTI CHE CARATTERIZZANO IL PROCESSO DEL CREDIT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ORSO DI FORMAZIONE</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COSTRUZIONE DEL PRESIDIO E OTTIMIZZAZIONE DEL RATING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r>
              <a:rPr b="1" i="1" lang="it-IT" sz="1600" spc="-1" strike="noStrike" u="sng">
                <a:solidFill>
                  <a:srgbClr val="000000"/>
                </a:solidFill>
                <a:uFillTx/>
                <a:latin typeface="Arial"/>
              </a:rPr>
              <a:t>LA COSTRUZIONE DI UN PRESIDIOI FINANZIARIO INTERNO ALLE IMPRESE</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r>
              <a:rPr b="1" i="1" lang="it-IT" sz="1600" spc="-1" strike="noStrike" u="sng">
                <a:solidFill>
                  <a:srgbClr val="000000"/>
                </a:solidFill>
                <a:uFillTx/>
                <a:latin typeface="Arial"/>
              </a:rPr>
              <a:t>COME FINANZIARE L’IMPRESA</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r>
              <a:rPr b="1" i="1" lang="it-IT" sz="1600" spc="-1" strike="noStrike" u="sng">
                <a:solidFill>
                  <a:srgbClr val="000000"/>
                </a:solidFill>
                <a:uFillTx/>
                <a:latin typeface="Arial"/>
              </a:rPr>
              <a:t>L’ISTRUTTORIA BANCARIA</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r>
              <a:rPr b="1" i="1" lang="it-IT" sz="1600" spc="-1" strike="noStrike" u="sng">
                <a:solidFill>
                  <a:srgbClr val="000000"/>
                </a:solidFill>
                <a:uFillTx/>
                <a:latin typeface="Arial"/>
              </a:rPr>
              <a:t>AZIONI E TECNICHE PER GOVERNARE IL RATING BANC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ORSO DI FORMAZIONE</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3200" spc="-1" strike="noStrike">
                <a:solidFill>
                  <a:srgbClr val="000000"/>
                </a:solidFill>
                <a:latin typeface="Arial"/>
              </a:rPr>
              <a:t>COME MITIGARE IL RISCHIO DI CREDITO</a:t>
            </a:r>
            <a:endParaRPr b="0" lang="en-US" sz="32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	</a:t>
            </a:r>
            <a:r>
              <a:rPr b="1" i="1" lang="it-IT" sz="1600" spc="-1" strike="noStrike" u="sng">
                <a:solidFill>
                  <a:srgbClr val="000000"/>
                </a:solidFill>
                <a:uFillTx/>
                <a:latin typeface="Arial"/>
              </a:rPr>
              <a:t>STRUMENTI DI MITIGAZIONE DEL RISCHIO DI CREDITO</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i="1" lang="it-IT" sz="1600" spc="-1" strike="noStrike" u="sng">
                <a:solidFill>
                  <a:srgbClr val="000000"/>
                </a:solidFill>
                <a:uFillTx/>
                <a:latin typeface="Arial"/>
              </a:rPr>
              <a:t>I CONFID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O SCENARIO DA INQUADRARE</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1)</a:t>
            </a:r>
            <a:r>
              <a:rPr b="0" lang="it-IT" sz="2000" spc="-1" strike="noStrike">
                <a:solidFill>
                  <a:srgbClr val="000000"/>
                </a:solidFill>
                <a:latin typeface="Arial"/>
              </a:rPr>
              <a:t>	</a:t>
            </a:r>
            <a:r>
              <a:rPr b="0" lang="it-IT" sz="2000" spc="-1" strike="noStrike">
                <a:solidFill>
                  <a:srgbClr val="000000"/>
                </a:solidFill>
                <a:latin typeface="Arial"/>
              </a:rPr>
              <a:t>QUALI SONO LE PROSPETTIVE DELLE PMI NEL CONTESTO ECONOMICO-ITALIANO</a:t>
            </a:r>
            <a:endParaRPr b="0" lang="en-US" sz="2000" spc="-1" strike="noStrike">
              <a:solidFill>
                <a:srgbClr val="000000"/>
              </a:solidFill>
              <a:latin typeface="Arial"/>
            </a:endParaRPr>
          </a:p>
          <a:p>
            <a:pPr marL="457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90000"/>
              </a:lnSpc>
              <a:spcBef>
                <a:spcPts val="4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L E’ LA DINAMICA DELLO SCENARIO CREDITIZIO</a:t>
            </a:r>
            <a:endParaRPr b="0" lang="en-US" sz="2000" spc="-1" strike="noStrike">
              <a:solidFill>
                <a:srgbClr val="000000"/>
              </a:solidFill>
              <a:latin typeface="Arial"/>
            </a:endParaRPr>
          </a:p>
          <a:p>
            <a:pPr marL="457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90000"/>
              </a:lnSpc>
              <a:spcBef>
                <a:spcPts val="49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STENERE LE PMI ATTRAVERSO LA COSTRUZIONE DI UN SISTEMA DI RELAZIONI CHE COINVOLGANO LA CONSULENZA DEL PROFESSIONISTA DELL’IMPRESA NEL RAPPORTO BANCA - IMPRESA</a:t>
            </a:r>
            <a:endParaRPr b="0" lang="en-US" sz="2000" spc="-1" strike="noStrike">
              <a:solidFill>
                <a:srgbClr val="000000"/>
              </a:solidFill>
              <a:latin typeface="Arial"/>
            </a:endParaRPr>
          </a:p>
          <a:p>
            <a:pPr marL="457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90000"/>
              </a:lnSpc>
              <a:spcBef>
                <a:spcPts val="499"/>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ARTNERSHIP TRA COMMERCIALISTI ED UNA </a:t>
            </a:r>
            <a:endParaRPr b="0" lang="en-US" sz="2000" spc="-1" strike="noStrike">
              <a:solidFill>
                <a:srgbClr val="000000"/>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OOPERATIVA DI GARANZIA CHE SIA A SERVIZIO DELLE IMPRESE APPARTENENTI AL PORTAFOGLIO CLIENTI DEI</a:t>
            </a:r>
            <a:endParaRPr b="0" lang="en-US" sz="2000" spc="-1" strike="noStrike">
              <a:solidFill>
                <a:srgbClr val="000000"/>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ROFESSIONISTI STESSI</a:t>
            </a:r>
            <a:endParaRPr b="0" lang="en-US" sz="2000" spc="-1" strike="noStrike">
              <a:solidFill>
                <a:srgbClr val="000000"/>
              </a:solidFill>
              <a:latin typeface="Arial"/>
            </a:endParaRPr>
          </a:p>
          <a:p>
            <a:pPr marL="457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5712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MMERCIALISTI ATTENTI</a:t>
            </a:r>
            <a:br>
              <a:rPr sz="2800"/>
            </a:br>
            <a:r>
              <a:rPr b="1" lang="it-IT" sz="2800" spc="-1" strike="noStrike">
                <a:solidFill>
                  <a:srgbClr val="000000"/>
                </a:solidFill>
                <a:latin typeface="Arial"/>
              </a:rPr>
              <a:t>LE PMI INVOCANO UN SOS</a:t>
            </a:r>
            <a:br>
              <a:rPr sz="2800"/>
            </a:br>
            <a:r>
              <a:rPr b="1" lang="it-IT" sz="2800" spc="-1" strike="noStrike">
                <a:solidFill>
                  <a:srgbClr val="000000"/>
                </a:solidFill>
                <a:latin typeface="Arial"/>
              </a:rPr>
              <a:t>LE BANCHE DOVE VOLGONO LO SGUARDO?</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L RAPPORTO CON IL SISTEMA BANCARIO, OGGI PIU’ CHE MAI PRESENTA UNA SERIE DI TENSIONI:</a:t>
            </a:r>
            <a:endParaRPr b="0" lang="en-US" sz="2000" spc="-1" strike="noStrike">
              <a:solidFill>
                <a:srgbClr val="000000"/>
              </a:solidFill>
              <a:latin typeface="Arial"/>
            </a:endParaRPr>
          </a:p>
          <a:p>
            <a:pPr marL="343080" indent="-343080" algn="just">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 UN LATO LA DIFFICOLTA’ DI ACCESSO AL CREDITO DA PARTE DELLE PMI </a:t>
            </a:r>
            <a:endParaRPr b="0" lang="en-US" sz="2000" spc="-1" strike="noStrike">
              <a:solidFill>
                <a:srgbClr val="000000"/>
              </a:solidFill>
              <a:latin typeface="Arial"/>
            </a:endParaRPr>
          </a:p>
          <a:p>
            <a:pPr marL="343080" indent="-343080" algn="just">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LL’ALTRO LE PROBLEMATICHE DEGLI ISTITUTI NEL CONCEDERE CREDITO, IL NUOVO ACCORDO DI BASILEA 2, IL FORTE SBILANCIAMENTO DELLA STRUTTURA FINANZIARIA DELL’IMPRESA CHE DIVENTA UN GROSSO OSTACOLO NELLA VALUTAZIONE DEL MERITO CREDITIZI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LEMENTI CHE CONTRIBUISCONO AD ACCENTUARE LA PERCEZIONE DI UNA SCARSA FLESSIBILITA’ DEL SISTEMA BANCARI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L RUOLO DEI CONFIDI</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 UN CONTESTO COSI’ AMPIO E SFIDANTE INTERVIENE LA NECESSITA’ E L’UTILITA’ DI RICORRERE AD IMPORTANTI STRUMENTI DI GARANZIA QUALI DRIVER DETERMINANTI PER L’ACCESSO AL CREDITO DA PARTE DELLE PMI.</a:t>
            </a:r>
            <a:r>
              <a:rPr b="0" lang="it-IT" sz="2000" spc="-1" strike="noStrike">
                <a:solidFill>
                  <a:srgbClr val="000000"/>
                </a:solidFill>
                <a:latin typeface="Arial"/>
              </a:rPr>
              <a:t>	</a:t>
            </a:r>
            <a:endParaRPr b="0" lang="en-US" sz="2000" spc="-1" strike="noStrike">
              <a:solidFill>
                <a:srgbClr val="000000"/>
              </a:solidFill>
              <a:latin typeface="Arial"/>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VIENE  COSI’ ACCENTUATO IL RUOLO DEI CONFIDI</a:t>
            </a:r>
            <a:endParaRPr b="0" lang="en-US" sz="2400" spc="-1" strike="noStrike">
              <a:solidFill>
                <a:srgbClr val="000000"/>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1) DA   UNA   PARTE   PER  IL  RILASCIO DI    GARANZIE   CHE      </a:t>
            </a:r>
            <a:endParaRPr b="0" lang="en-US" sz="2000" spc="-1" strike="noStrike">
              <a:solidFill>
                <a:srgbClr val="000000"/>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ONTRIBUISCANO AD UN’ATTENUAZIONE DEL RISCHIO DI  </a:t>
            </a:r>
            <a:endParaRPr b="0" lang="en-US" sz="2000" spc="-1" strike="noStrike">
              <a:solidFill>
                <a:srgbClr val="000000"/>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REDITO  </a:t>
            </a:r>
            <a:endParaRPr b="0" lang="en-US" sz="2000" spc="-1" strike="noStrike">
              <a:solidFill>
                <a:srgbClr val="000000"/>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2) DALL’ALTRA PER  MEDIARE  NEL  RAPPORTO TRA  BANCA </a:t>
            </a:r>
            <a:endParaRPr b="0" lang="en-US" sz="2000" spc="-1" strike="noStrike">
              <a:solidFill>
                <a:srgbClr val="000000"/>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IMPRESA,  E   AGGIUNGEREI ANCHE  IL  PROFESSIONISTA     </a:t>
            </a:r>
            <a:endParaRPr b="0" lang="en-US" sz="2000" spc="-1" strike="noStrike">
              <a:solidFill>
                <a:srgbClr val="000000"/>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DELL’IMPRESA  CHE   DEVE  ESSERE  SEMPRE   ATTENTO  </a:t>
            </a:r>
            <a:endParaRPr b="0" lang="en-US" sz="2000" spc="-1" strike="noStrike">
              <a:solidFill>
                <a:srgbClr val="000000"/>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LLE DINAMICHE FINANZIARIE DEI PROPRI CLIENTI</a:t>
            </a:r>
            <a:endParaRPr b="0" lang="en-US" sz="2000" spc="-1" strike="noStrike">
              <a:solidFill>
                <a:srgbClr val="000000"/>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000000"/>
                </a:solidFill>
                <a:latin typeface="Arial"/>
              </a:rPr>
              <a:t>LE CARATTERISTICHE</a:t>
            </a:r>
            <a:br>
              <a:rPr sz="2400"/>
            </a:br>
            <a:r>
              <a:rPr b="1" lang="it-IT" sz="2400" spc="-1" strike="noStrike">
                <a:solidFill>
                  <a:srgbClr val="000000"/>
                </a:solidFill>
                <a:latin typeface="Arial"/>
              </a:rPr>
              <a:t>GIURIDICHE E STRUTTURALI</a:t>
            </a:r>
            <a:br>
              <a:rPr sz="2400"/>
            </a:br>
            <a:r>
              <a:rPr b="1" lang="it-IT" sz="2400" spc="-1" strike="noStrike">
                <a:solidFill>
                  <a:srgbClr val="000000"/>
                </a:solidFill>
                <a:latin typeface="Arial"/>
              </a:rPr>
              <a:t>DEI CONSORZI DI GARANZIA FIDI</a:t>
            </a:r>
            <a:br>
              <a:rPr sz="2400"/>
            </a:b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E’ UNA CERTA RIPETITIVITA’ NELLE DOMANDE E NELLE RISPOSTE PUBBLICATE IN LETTERATURA IN TEMA DI CONSORZI FIDI CHE CONVERGONO VERSO 2 PILASTRI FONDAMENTALI:</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LEGGE QUADRO SUI CONFIDI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t>
            </a:r>
            <a:r>
              <a:rPr b="0" lang="it-IT" sz="2000" spc="-1" strike="noStrike">
                <a:solidFill>
                  <a:srgbClr val="000000"/>
                </a:solidFill>
                <a:latin typeface="Arial"/>
              </a:rPr>
              <a:t>ART. 13 DEL DECRETO LEGGE 30 SETTEMBRE 2003, N. 269” CHE DELINEA 3 MODELLI ALTERNATIVI PER LO SVOLGIMENTO DELL’ATTIVITA’ COLLETTIVA FIDI</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a:t>
            </a:r>
            <a:r>
              <a:rPr b="0" lang="it-IT" sz="2000" spc="-1" strike="noStrike">
                <a:solidFill>
                  <a:srgbClr val="000000"/>
                </a:solidFill>
                <a:latin typeface="Arial"/>
              </a:rPr>
              <a:t>	</a:t>
            </a:r>
            <a:r>
              <a:rPr b="0" lang="it-IT" sz="2000" spc="-1" strike="noStrike">
                <a:solidFill>
                  <a:srgbClr val="000000"/>
                </a:solidFill>
                <a:latin typeface="Arial"/>
              </a:rPr>
              <a:t>LA NUOVA REGOLAMENTAZIONE DEL CAPITALE DI VIGILANZA DELLE BANCH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BASILEA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VERSO BASILEA 2</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E PROBLEMATICHE EMERSE NEL CORSO DEGLI ANNI 90 RIMANGONO ATTUALI:</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SISTE UNA SITUAZIONE DI SOTTOCAPITALIZZAZIONE DELLE PMI</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ARSITA’ DI CAPITALE DI RISCHIO CHE IN SITUAZIONI DI SFRUTTAMENTO DI LEVA FINANZIARIA PARTICOLARMENTE FAVOREVOLI NON OSTACOLAVA LO SVILUPPO DELL’IMPRESA, MENTRE OGGI IN UN CONTESTO AMBIENTALE SEMPRE PIU’ “ GLOBALIZZATO” E COMPETITIVO, NE COSTITUISCE UN LIMITE RILEVANTE</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LTERIORI ELEMENTI DI CRITICITA’ DERIVANO PROPRIO DALLE MODALITA’ DI FINANZIAMENTO CUI RICORRONO LE P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VERSO BASILEA 2</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MANCANZA DI DISTINZIONE TRA FONTI DI CAPITALI DI RISCHIO DESTINATI ALLA CRESCITA E ALL’ESPANSIONE DELL’AZIENDA E FONTI DI CAPITALI DI DEBITO O DI FUNZIONAMENTO DESTINATI A SOSTENERE L’ATTIVITA’ NORMALE DELL’AZIENDA E GLI INVESTIMENTI DI MANTENIMENTO DELLE CAPACITA’ PRODUTTIVE E DI COMMERCIALIZZAZIONE;</a:t>
            </a:r>
            <a:endParaRPr b="0" lang="en-US" sz="2000" spc="-1" strike="noStrike">
              <a:solidFill>
                <a:srgbClr val="000000"/>
              </a:solidFill>
              <a:latin typeface="Arial"/>
            </a:endParaRPr>
          </a:p>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ORTISSIMA DIPENDENZA DAL SISTEMA BANCARIO E SOPRATTUTTO DAL FINANZIAMENTO A BREVE TERMINE NELLA FORMA DI LINEE DI CREDITO ORDINARIO DI CONTO CORRENTE.</a:t>
            </a:r>
            <a:endParaRPr b="0" lang="en-US" sz="2000" spc="-1" strike="noStrike">
              <a:solidFill>
                <a:srgbClr val="000000"/>
              </a:solidFill>
              <a:latin typeface="Arial"/>
            </a:endParaRPr>
          </a:p>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RILEVA INOLTRE UN ECCESSIVO PESO DEL RAPPORTO DEI DEBITI FINANZIARI SUI MEZZI PROPRI E SE SI TENDE A SOTTOSTIMARE I REDDITI PER FINI FISCALI  INEVITABILMENTE SI SOTTOSTIMA IL MERITO DEL CREDI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BASILEA 2</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DA NOTARE :</a:t>
            </a:r>
            <a:endParaRPr b="0" lang="en-US" sz="2000" spc="-1" strike="noStrike">
              <a:solidFill>
                <a:srgbClr val="000000"/>
              </a:solidFill>
              <a:latin typeface="Arial"/>
            </a:endParaRPr>
          </a:p>
          <a:p>
            <a:pPr marL="343080" indent="-343080" algn="just">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DOTTA ATTENZIONE SULLA CONOSCENZA DEL CLIENTE</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a:t>
            </a:r>
            <a:r>
              <a:rPr b="0" lang="it-IT" sz="2000" spc="-1" strike="noStrike">
                <a:solidFill>
                  <a:srgbClr val="000000"/>
                </a:solidFill>
                <a:latin typeface="Arial"/>
              </a:rPr>
              <a:t>	</a:t>
            </a:r>
            <a:r>
              <a:rPr b="0" lang="it-IT" sz="2000" spc="-1" strike="noStrike">
                <a:solidFill>
                  <a:srgbClr val="000000"/>
                </a:solidFill>
                <a:latin typeface="Arial"/>
              </a:rPr>
              <a:t>  L’ENFASI SU UN CONCETTO DI RATING CHE NON E’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IENAMENTE FEDELE AL PASSAGGIO PRESENTE NEL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DOCUMENTO DI BASILEA 2 CHE AFFERMA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t>
            </a:r>
            <a:r>
              <a:rPr b="0" lang="it-IT" sz="2000" spc="-1" strike="noStrike">
                <a:solidFill>
                  <a:srgbClr val="000000"/>
                </a:solidFill>
                <a:latin typeface="Arial"/>
              </a:rPr>
              <a:t>.</a:t>
            </a:r>
            <a:r>
              <a:rPr b="0" lang="it-IT" sz="2000" spc="-1" strike="noStrike" u="sng">
                <a:solidFill>
                  <a:srgbClr val="000000"/>
                </a:solidFill>
                <a:uFillTx/>
                <a:latin typeface="Arial"/>
              </a:rPr>
              <a:t> ai fini dell’assegnazione dei rating, le banche devono tener conto di tutte le informazioni pertinenti, della capacità storica, ma anche di quella futura di generare la liquidità necessaria a rimborsare i propri debiti e a far fronte ad altre esigenze finanziarie, quali le spese per investimenti necessari affinchè il prenditore resti operativo e sia in grado di gestire i flussi di cass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8:30:23Z</dcterms:created>
  <dc:creator>giulio</dc:creator>
  <dc:description/>
  <dc:language>en-US</dc:language>
  <cp:lastModifiedBy>user</cp:lastModifiedBy>
  <dcterms:modified xsi:type="dcterms:W3CDTF">2009-12-09T09:15:44Z</dcterms:modified>
  <cp:revision>117</cp:revision>
  <dc:subject/>
  <dc:title>Diapositiva 1</dc:title>
</cp:coreProperties>
</file>