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3564-9203-4B4B-B556-1CCAA4D56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780A-0536-4900-979F-DB637A59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6B7F01-AEC6-429F-BDE7-0880AB38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EF1F8-829E-4108-8171-A464B19D8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30CDE3-128F-4AA5-827F-79C1384C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B0A3DF-9DA1-44A4-8B9D-DFB93821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6A4D34-1345-42EB-90DC-196C25EE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FD32BA-25C4-45EF-9E8C-D079E831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643683-41BA-4C6D-BF1B-501D94CC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9C55EB-6D4D-47FC-BD90-AB02954FD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388B1C-BCEC-45C1-9124-F0D88E152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0209D9-E6C2-48B1-A2C2-19AB9F417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9391-B450-440F-83B2-F53901C73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C956B-B655-4A60-95F1-7288A15D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498105-5061-4B62-84EA-60023126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24C8A8-FA90-4E97-8D11-9C2A5B78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B70F3A-CA20-4EF3-BC7A-27D6E733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667952-0216-4EF9-BF77-85F30CD5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EDDF2E-6004-4518-B84A-2D595E80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904644-0375-48E4-922C-19A92801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328ED7-8844-4983-BAC1-1C18C549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384B69-134E-4CBD-BA13-2AA6AA72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5EF3AD-44D7-44F0-8716-AB059EB3A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F6E1-7F56-4B2D-A8E8-00B2A8C1A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6A4382-1CEF-4EBC-BA1C-BB241844E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F4012-6DF4-4476-9742-E98FC0495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F05409-20DE-4ADD-A4CF-443B8B60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69053-AB0C-4661-9364-DE022FA2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B4BE56-E75F-4EA3-959D-6046A95F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9FABCF-1EB4-462A-8596-7DC7FA2F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0CB121-3B33-4AFC-9CD1-37B1BFD4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555A32-2751-4580-8D57-8797B1CB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799AB0-9050-4740-AF74-0731BFD7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9FFDDD-625B-4DC7-A500-7B58248C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CAF2-3119-4255-A8DA-0D440E697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818D7-F44E-4056-BDE1-C6525F22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96E370-8383-48B2-A788-6AB64F63F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D1B6A0-5190-4594-BB25-98DCD2BCC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C0DCE-0794-4899-81F7-F7EAF5AC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713D-6B47-4BC7-838C-1B7B6879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0B32-99E0-490E-B1BD-FB634ED1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E4C6-2E5A-48D7-8E5C-445B6688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9995D-1CC6-4CE8-957F-4CFA97EE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B0B1-7845-4D81-8347-28E22702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6F2A-BC9D-420E-A2A5-B87A0934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9210-9B91-4992-A661-203F1359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58AD-E298-4ACF-B220-2532D14B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C229-F8E3-4BF5-8551-A9406BAF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5771D-08E0-4510-8EC5-60E29FC3F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E5F0-7516-42D0-94E1-8E90A5C78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B8A0F-ED82-46C4-A9D1-92ABDD7FD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9D563-8CCA-423A-82F9-DD9A01CE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BED4C-6B91-4BE1-8CE7-DC7E568E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999F7-0B28-41F5-A8F0-3D9BE4D6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0C25C-FBE8-48C4-9A02-EA2A2D6F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B35D-772B-4DB2-9D7E-E8EB349F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98C31-0A42-46CD-9D91-59DD508E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93DCF-6DC4-4186-9DB8-8C6BA931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DF1C2-F0D7-458E-9350-A55D487A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CF5AA-E9E8-481D-8D0F-79EFF2E8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62240-2330-448A-8E06-FE619639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02BB5-0EAC-4C36-B9F9-4659E0E82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B6737-FB78-4D9C-A9DB-6E981CB8C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2F05C-C30A-4FC7-93E7-5B219434E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430EA-944D-4C7E-8D4F-79D7024F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06E55-8695-40EB-B844-8BEA7D6D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BD23-2C75-47F2-8828-CF54C20C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B1B2D-7853-4445-8E68-BEFAB47C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1B275-4BCB-4405-B378-81A21246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F92B9-85EB-4EA9-9384-A484C9BA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285B6-279F-4A04-86BC-E0CCA9A4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D6569-0D59-439F-A924-95D882DE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D9344-3980-4FC9-8825-66A1AE1F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CBD8B-5717-4FF4-8779-5211C0DF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72F21-2B78-4512-8AFC-0B28CA6FE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388DD-E7F4-4D35-BC32-B8A97AC50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8D0D9-E323-4FA7-9F7B-721A4C273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24CD-2D87-4126-A951-6E0D578D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9D9AC-AADF-4541-8986-F83E904B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72B64-363C-46F4-8F24-E7EB25FA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C8B50-248C-49E2-9239-10121647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A64A6-4672-4A4C-8BAE-7C9CBEBD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33568-9F98-4292-BD9A-AE4EBB49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80559-AE2C-4420-87EE-4C2B29BC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52902-DE69-4AAD-B1A7-C14B968A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9058B-FAC0-479B-A7F9-15EB5A3F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1664D-EE5D-4CCC-A356-BB7DA025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76271-DF8B-4A22-B02C-2250BB012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D55F-937B-4114-9986-2DB250DF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76C0E-0736-4299-A8B2-D23699794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FAB7A-EA87-486B-B7FE-0D702E777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315A4-4C40-491E-BBCB-E28E570E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A6555-555A-43D8-BD9E-61CE168A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DF28D-0553-47F1-ADB7-525F3397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1DEE7-552F-4ED8-A2C7-5CCDEC16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86271-0FBC-4DB9-B12E-282FE22B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27889-0F87-4261-90B0-E5A080D0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2591F-217F-4FC5-B25A-6EA2C3E8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17165-55E3-402E-8910-C03710B8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04AA-95FF-46A9-ADB0-F9B2F8E3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518F0-5AC2-4129-AFAD-833D6915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F9E9B-E2DF-4BCF-8FAB-269B7A11C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514AB-C6C9-41BF-810A-9DBD0CFC5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BD971-4510-42B2-8A52-4BA88E5EC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F02EA-AA81-46AF-BC27-EC80C229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1F039-CDB0-4192-AD80-397D145C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C2ADE-8675-481D-B856-2E0425B7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012CA-86A3-4D34-B192-9BC94434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B68FF-8C6C-410E-A45A-D925045F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4FB19-672F-45EB-B754-95ABB520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B561-38F1-4223-847F-8C254385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C336A-752A-4DFC-9A4A-EA753B7C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4F0B9-10EA-46E8-A269-3CA1B1FF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4E374-EABF-451B-A8B9-9D4133C1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2F887-259F-4370-BC73-0F4E5910E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F1DBE-0531-4D06-A11B-3D113DB76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34377-D33A-4CED-A14F-A24EC6AF5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F4519-FD0C-40D0-BB1C-829F83C8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CCE09-7F12-478C-83AC-749089CD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2CC61-35B0-426D-BE12-0FDF8365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5A032-E7B7-420E-9E5F-77DE8153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A7C5-A98F-4F4C-8B90-41B15A3F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0DF16-43D4-4613-8372-F4BA971D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114C4-2818-4B05-939C-EBE97E3E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A6FC6-7689-4B6A-B46B-95635AD7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11A9A-D86B-4823-99E4-3E34B557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7A9D2-598B-4B22-80D0-23983401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34D49-0995-429B-B39E-0E640B052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60E2E-67C8-4718-AAB7-49E921A21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3CD7FD-FEC6-4901-A06B-57C3B1C38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AEA26F-6544-4C6D-BD8B-76F9E9A1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509B9F-7118-409E-A6DD-6918AE8E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arrotondato 6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ettangolo arrotondato 8"/>
          <p:cNvGrpSpPr/>
          <p:nvPr/>
        </p:nvGrpSpPr>
        <p:grpSpPr>
          <a:xfrm>
            <a:off x="444600" y="426960"/>
            <a:ext cx="9016920" cy="5497560"/>
            <a:chOff x="444600" y="426960"/>
            <a:chExt cx="9016920" cy="5497560"/>
          </a:xfrm>
        </p:grpSpPr>
        <p:pic>
          <p:nvPicPr>
            <p:cNvPr id="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44600" y="426960"/>
              <a:ext cx="901692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87440" y="468360"/>
              <a:ext cx="893124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09068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0310-D7CB-4DDE-9639-681E18C7998D}" type="datetime">
              <a:rPr b="0" lang="it-IT" sz="1000" spc="-1" strike="noStrike">
                <a:solidFill>
                  <a:srgbClr val="a7a39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56712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imes New Roman"/>
              </a:rPr>
              <a:t>Argo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9043920" y="611136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DF9B-E3DF-49D6-9B3E-4735E42A3CCF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ttangolo arrotondato 9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rrotonda singolo angolo rettangolo 10"/>
          <p:cNvSpPr/>
          <p:nvPr/>
        </p:nvSpPr>
        <p:spPr>
          <a:xfrm>
            <a:off x="6934320" y="433440"/>
            <a:ext cx="2517480" cy="4343400"/>
          </a:xfrm>
          <a:custGeom>
            <a:avLst/>
            <a:gdLst>
              <a:gd name="textAreaLeft" fmla="*/ 0 w 2517480"/>
              <a:gd name="textAreaRight" fmla="*/ 2497320 w 251748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517775" h="4343400">
                <a:moveTo>
                  <a:pt x="0" y="0"/>
                </a:moveTo>
                <a:lnTo>
                  <a:pt x="2448587" y="0"/>
                </a:lnTo>
                <a:lnTo>
                  <a:pt x="2448587" y="0"/>
                </a:lnTo>
                <a:arcTo wR="69188" hR="69188" stAng="-5400000" swAng="5400000"/>
                <a:lnTo>
                  <a:pt x="251777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409068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735A-4CAE-4200-AF81-A8120920FB6C}" type="datetime">
              <a:rPr b="0" lang="it-IT" sz="1000" spc="-1" strike="noStrike">
                <a:solidFill>
                  <a:srgbClr val="a7a39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656712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Argom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9043920" y="611136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15DF-30CE-4166-BB3E-EA0A9A3822C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ttangolo arrotondato 6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Rettangolo arrotondato 8"/>
          <p:cNvGrpSpPr/>
          <p:nvPr/>
        </p:nvGrpSpPr>
        <p:grpSpPr>
          <a:xfrm>
            <a:off x="444600" y="426960"/>
            <a:ext cx="9016920" cy="5497560"/>
            <a:chOff x="444600" y="426960"/>
            <a:chExt cx="9016920" cy="5497560"/>
          </a:xfrm>
        </p:grpSpPr>
        <p:pic>
          <p:nvPicPr>
            <p:cNvPr id="447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44600" y="426960"/>
              <a:ext cx="901692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87440" y="468360"/>
              <a:ext cx="893124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409068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8560-FED9-4B32-82F7-210AA89D8D56}" type="datetime">
              <a:rPr b="0" lang="it-IT" sz="1000" spc="-1" strike="noStrike">
                <a:solidFill>
                  <a:srgbClr val="a7a39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656712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Argom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9043920" y="611136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3D5B-5C1F-46AC-973A-E00E17648ED4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tangolo arrotondato 9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ettangolo arrotondato 10"/>
          <p:cNvGrpSpPr/>
          <p:nvPr/>
        </p:nvGrpSpPr>
        <p:grpSpPr>
          <a:xfrm>
            <a:off x="444600" y="426960"/>
            <a:ext cx="9016920" cy="3121200"/>
            <a:chOff x="444600" y="426960"/>
            <a:chExt cx="9016920" cy="3121200"/>
          </a:xfrm>
        </p:grpSpPr>
        <p:pic>
          <p:nvPicPr>
            <p:cNvPr id="47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44600" y="426960"/>
              <a:ext cx="901692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95360" y="476280"/>
              <a:ext cx="891540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09068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045A-20D2-40FE-BFBF-3C8E346AAF8C}" type="datetime">
              <a:rPr b="0" lang="it-IT" sz="1000" spc="-1" strike="noStrike">
                <a:solidFill>
                  <a:srgbClr val="a7a39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56712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Argom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9043920" y="611136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53B5-A019-4634-B30D-ED4B6579E654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ttangolo arrotondato 6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ttangolo arrotondato 8"/>
          <p:cNvGrpSpPr/>
          <p:nvPr/>
        </p:nvGrpSpPr>
        <p:grpSpPr>
          <a:xfrm>
            <a:off x="444600" y="426960"/>
            <a:ext cx="9016920" cy="5497560"/>
            <a:chOff x="444600" y="426960"/>
            <a:chExt cx="9016920" cy="5497560"/>
          </a:xfrm>
        </p:grpSpPr>
        <p:pic>
          <p:nvPicPr>
            <p:cNvPr id="9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44600" y="426960"/>
              <a:ext cx="901692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87440" y="468360"/>
              <a:ext cx="893124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09068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A6BC-6AF9-42C5-A160-6CEF57E14ED8}" type="datetime">
              <a:rPr b="0" lang="it-IT" sz="1000" spc="-1" strike="noStrike">
                <a:solidFill>
                  <a:srgbClr val="a7a39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56712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Argom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9043920" y="611136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6B5B-B569-4EDC-AD25-49279949D1AA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ttangolo arrotondato 9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Rettangolo arrotondato 10"/>
          <p:cNvGrpSpPr/>
          <p:nvPr/>
        </p:nvGrpSpPr>
        <p:grpSpPr>
          <a:xfrm>
            <a:off x="444600" y="426960"/>
            <a:ext cx="9016920" cy="4353120"/>
            <a:chOff x="444600" y="426960"/>
            <a:chExt cx="9016920" cy="4353120"/>
          </a:xfrm>
        </p:grpSpPr>
        <p:pic>
          <p:nvPicPr>
            <p:cNvPr id="137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44600" y="426960"/>
              <a:ext cx="901692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80960" y="461880"/>
              <a:ext cx="894420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09068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F834-D60E-4525-B80D-9B8D77904150}" type="datetime">
              <a:rPr b="0" lang="it-IT" sz="1000" spc="-1" strike="noStrike">
                <a:solidFill>
                  <a:srgbClr val="a7a39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656712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Argom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9043920" y="611136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EF9E-FB43-42B6-AFE6-A27AEA76A3C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ttangolo arrotondato 6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Rettangolo arrotondato 8"/>
          <p:cNvGrpSpPr/>
          <p:nvPr/>
        </p:nvGrpSpPr>
        <p:grpSpPr>
          <a:xfrm>
            <a:off x="444600" y="426960"/>
            <a:ext cx="9016920" cy="5497560"/>
            <a:chOff x="444600" y="426960"/>
            <a:chExt cx="9016920" cy="5497560"/>
          </a:xfrm>
        </p:grpSpPr>
        <p:pic>
          <p:nvPicPr>
            <p:cNvPr id="18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44600" y="426960"/>
              <a:ext cx="901692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87440" y="468360"/>
              <a:ext cx="893124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09068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8F30-110A-4ACF-AF3E-35F1CCBF0283}" type="datetime">
              <a:rPr b="0" lang="it-IT" sz="1000" spc="-1" strike="noStrike">
                <a:solidFill>
                  <a:srgbClr val="a7a39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656712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Argom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9043920" y="611136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046A-88DC-46CA-BC47-22F2C0A41388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ttangolo arrotondato 6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Rettangolo arrotondato 8"/>
          <p:cNvGrpSpPr/>
          <p:nvPr/>
        </p:nvGrpSpPr>
        <p:grpSpPr>
          <a:xfrm>
            <a:off x="444600" y="426960"/>
            <a:ext cx="9016920" cy="5497560"/>
            <a:chOff x="444600" y="426960"/>
            <a:chExt cx="9016920" cy="5497560"/>
          </a:xfrm>
        </p:grpSpPr>
        <p:pic>
          <p:nvPicPr>
            <p:cNvPr id="227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44600" y="426960"/>
              <a:ext cx="901692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487440" y="468360"/>
              <a:ext cx="893124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09068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4E2C-FF9A-4124-AC5B-80D1388C6733}" type="datetime">
              <a:rPr b="0" lang="it-IT" sz="1000" spc="-1" strike="noStrike">
                <a:solidFill>
                  <a:srgbClr val="a7a39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56712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Argom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9043920" y="611136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2DAB-EFCB-4124-8164-D9943361DA98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ttangolo arrotondato 6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Rettangolo arrotondato 8"/>
          <p:cNvGrpSpPr/>
          <p:nvPr/>
        </p:nvGrpSpPr>
        <p:grpSpPr>
          <a:xfrm>
            <a:off x="444600" y="426960"/>
            <a:ext cx="9016920" cy="5497560"/>
            <a:chOff x="444600" y="426960"/>
            <a:chExt cx="9016920" cy="5497560"/>
          </a:xfrm>
        </p:grpSpPr>
        <p:pic>
          <p:nvPicPr>
            <p:cNvPr id="27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44600" y="426960"/>
              <a:ext cx="901692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487440" y="468360"/>
              <a:ext cx="893124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09068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57BF-4B47-410A-A7C9-FB649027D14A}" type="datetime">
              <a:rPr b="0" lang="it-IT" sz="1000" spc="-1" strike="noStrike">
                <a:solidFill>
                  <a:srgbClr val="a7a39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656712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Argom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9043920" y="611136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293C-20B3-4E1C-8DFD-D4C51CD0949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ttangolo arrotondato 9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409068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33C9-9879-439E-8A23-FF55F7C15A24}" type="datetime">
              <a:rPr b="0" lang="it-IT" sz="1000" spc="-1" strike="noStrike">
                <a:solidFill>
                  <a:srgbClr val="a7a39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656712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Argom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9043920" y="611136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5B4C-385B-4B3C-A6D3-D3BC6E90BD5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ttangolo arrotondato 6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Rettangolo arrotondato 8"/>
          <p:cNvGrpSpPr/>
          <p:nvPr/>
        </p:nvGrpSpPr>
        <p:grpSpPr>
          <a:xfrm>
            <a:off x="444600" y="426960"/>
            <a:ext cx="9016920" cy="5497560"/>
            <a:chOff x="444600" y="426960"/>
            <a:chExt cx="9016920" cy="5497560"/>
          </a:xfrm>
        </p:grpSpPr>
        <p:pic>
          <p:nvPicPr>
            <p:cNvPr id="359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44600" y="426960"/>
              <a:ext cx="901692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487440" y="468360"/>
              <a:ext cx="893124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5"/>
          </p:nvPr>
        </p:nvSpPr>
        <p:spPr>
          <a:xfrm>
            <a:off x="409068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BF92-A727-4337-90A2-B6493390C377}" type="datetime">
              <a:rPr b="0" lang="it-IT" sz="1000" spc="-1" strike="noStrike">
                <a:solidFill>
                  <a:srgbClr val="a7a39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6"/>
          </p:nvPr>
        </p:nvSpPr>
        <p:spPr>
          <a:xfrm>
            <a:off x="656712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Argom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7"/>
          </p:nvPr>
        </p:nvSpPr>
        <p:spPr>
          <a:xfrm>
            <a:off x="9043920" y="611136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6FF4-1608-404B-BBEA-340D6EF80BF0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Segnaposto numero diapositiva 2"/>
          <p:cNvSpPr/>
          <p:nvPr/>
        </p:nvSpPr>
        <p:spPr>
          <a:xfrm>
            <a:off x="9410760" y="6492960"/>
            <a:ext cx="495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2BCB-2464-4E1F-90D8-D777227CE99F}" type="slidenum">
              <a:rPr b="1" lang="en-US" sz="12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reccia circolare a destra 9"/>
          <p:cNvSpPr/>
          <p:nvPr/>
        </p:nvSpPr>
        <p:spPr>
          <a:xfrm>
            <a:off x="415800" y="3716280"/>
            <a:ext cx="804960" cy="1216080"/>
          </a:xfrm>
          <a:custGeom>
            <a:avLst/>
            <a:gdLst>
              <a:gd name="textAreaLeft" fmla="*/ 107640 w 804960"/>
              <a:gd name="textAreaRight" fmla="*/ 697320 w 804960"/>
              <a:gd name="textAreaTop" fmla="*/ 228600 h 1216080"/>
              <a:gd name="textAreaBottom" fmla="*/ 88704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20" stAng="-5400000" swAng="-5400000"/>
                <a:lnTo>
                  <a:pt x="0" y="11694"/>
                </a:lnTo>
                <a:arcTo wR="21600" hR="8120" stAng="10800000" swAng="-3330944"/>
                <a:lnTo>
                  <a:pt x="16200" y="21342"/>
                </a:lnTo>
                <a:lnTo>
                  <a:pt x="21600" y="18026"/>
                </a:lnTo>
                <a:lnTo>
                  <a:pt x="16200" y="14194"/>
                </a:lnTo>
                <a:lnTo>
                  <a:pt x="16200" y="15981"/>
                </a:lnTo>
                <a:arcTo wR="21600" hR="8120" stAng="7469056" swAng="3040081"/>
                <a:lnTo>
                  <a:pt x="530" y="9906"/>
                </a:lnTo>
                <a:arcTo wR="21600" hR="8120" stAng="-10509137" swAng="5109137"/>
                <a:close/>
              </a:path>
              <a:path fill="darkenLess" w="21600" h="21600">
                <a:moveTo>
                  <a:pt x="21600" y="0"/>
                </a:moveTo>
                <a:arcTo wR="21600" hR="8120" stAng="-5400000" swAng="-5400000"/>
                <a:lnTo>
                  <a:pt x="0" y="8120"/>
                </a:lnTo>
                <a:arcTo wR="21600" hR="8120" stAng="10800000" swAng="-290863"/>
                <a:lnTo>
                  <a:pt x="530" y="9906"/>
                </a:lnTo>
                <a:arcTo wR="21600" hR="8120" stAng="-10509137" swAng="5109137"/>
                <a:close/>
              </a:path>
            </a:pathLst>
          </a:cu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22"/>
          <p:cNvSpPr/>
          <p:nvPr/>
        </p:nvSpPr>
        <p:spPr>
          <a:xfrm>
            <a:off x="523800" y="142920"/>
            <a:ext cx="8858160" cy="714240"/>
          </a:xfrm>
          <a:prstGeom prst="rect">
            <a:avLst/>
          </a:prstGeom>
          <a:solidFill>
            <a:srgbClr val="ffffff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Verdana"/>
                <a:ea typeface="Verdana"/>
              </a:rPr>
              <a:t>Quadro RW – C/C all’est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ttangolo 14"/>
          <p:cNvSpPr/>
          <p:nvPr/>
        </p:nvSpPr>
        <p:spPr>
          <a:xfrm>
            <a:off x="1136520" y="4365720"/>
            <a:ext cx="8064720" cy="2016000"/>
          </a:xfrm>
          <a:prstGeom prst="rect">
            <a:avLst/>
          </a:prstGeom>
          <a:solidFill>
            <a:srgbClr val="c4e1f2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’esonero dagli obblighi di monitoraggio compete a condizione che i redditi di natura finanziaria siano riscossi attraverso l’intervento di un intermediario residente anche nel caso in cui quest’ultimo non abbia applicato sui proventi alcuna forma di prelievo alla fonte </a:t>
            </a:r>
            <a:r>
              <a:rPr b="0" i="1" lang="it-IT" sz="1800" spc="-1" strike="noStrike">
                <a:solidFill>
                  <a:srgbClr val="ff0000"/>
                </a:solidFill>
                <a:latin typeface="Arial"/>
              </a:rPr>
              <a:t>(a titolo di imposta sostitutiva o di ritenuta a titolo d’acconto o d’impost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tangolo 15"/>
          <p:cNvSpPr/>
          <p:nvPr/>
        </p:nvSpPr>
        <p:spPr>
          <a:xfrm>
            <a:off x="560520" y="981000"/>
            <a:ext cx="8785080" cy="3024360"/>
          </a:xfrm>
          <a:prstGeom prst="rect">
            <a:avLst/>
          </a:prstGeom>
          <a:solidFill>
            <a:srgbClr val="fde5cd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68560" indent="-116856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Regola -&gt;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 riferimento ai conti correnti all’estero, l’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obbligo di compilazione del modulo RW non sussist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 il contribuente conferisce apposita disposizione alla banca estera presso la quale è detenuto il conto di bonificare gli interessi maturati sul conto estero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 (immediatamente e comunque entro il mese della maturazione)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u un conto corrente italiano intestato al medesimo contribuente, dando specificazione nella causale dell’ammontare lordo e dell’eventuale ritenuta applicata all’ester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68560" indent="-116856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0000"/>
                </a:solidFill>
                <a:latin typeface="Arial"/>
              </a:rPr>
              <a:t>Tale disposizione può essere resa dal contribuente anche nell’ipotesi di un conto corrente infruttifero nel presupposto che l’incarico può avere ad oggetto i proventi che dovessero maturare in futuro per effetto, ad esempio, di modifiche contrattuali successivamente intervenu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Immagine 6" descr="logo.png"/>
          <p:cNvPicPr/>
          <p:nvPr/>
        </p:nvPicPr>
        <p:blipFill>
          <a:blip r:embed="rId1"/>
          <a:stretch/>
        </p:blipFill>
        <p:spPr>
          <a:xfrm>
            <a:off x="6465960" y="260280"/>
            <a:ext cx="2774880" cy="432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Segnaposto numero diapositiva 2"/>
          <p:cNvSpPr/>
          <p:nvPr/>
        </p:nvSpPr>
        <p:spPr>
          <a:xfrm>
            <a:off x="9410760" y="6492960"/>
            <a:ext cx="495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8F40-9626-4327-835C-87F56C20E8D9}" type="slidenum">
              <a:rPr b="1" lang="en-US" sz="12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onnettore 1 8"/>
          <p:cNvSpPr/>
          <p:nvPr/>
        </p:nvSpPr>
        <p:spPr>
          <a:xfrm>
            <a:off x="633240" y="1844640"/>
            <a:ext cx="1008360" cy="0"/>
          </a:xfrm>
          <a:prstGeom prst="line">
            <a:avLst/>
          </a:prstGeom>
          <a:ln w="3816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Connettore 1 9"/>
          <p:cNvSpPr/>
          <p:nvPr/>
        </p:nvSpPr>
        <p:spPr>
          <a:xfrm>
            <a:off x="633240" y="1195560"/>
            <a:ext cx="0" cy="649080"/>
          </a:xfrm>
          <a:prstGeom prst="line">
            <a:avLst/>
          </a:prstGeom>
          <a:ln w="3816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ttangolo arrotondato 10"/>
          <p:cNvSpPr/>
          <p:nvPr/>
        </p:nvSpPr>
        <p:spPr>
          <a:xfrm>
            <a:off x="488880" y="981000"/>
            <a:ext cx="6048360" cy="4078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4248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Arial"/>
              </a:rPr>
              <a:t>Conto corrente in Gre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ttangolo 11"/>
          <p:cNvSpPr/>
          <p:nvPr/>
        </p:nvSpPr>
        <p:spPr>
          <a:xfrm>
            <a:off x="1065240" y="1484280"/>
            <a:ext cx="8351640" cy="1152720"/>
          </a:xfrm>
          <a:prstGeom prst="rect">
            <a:avLst/>
          </a:prstGeom>
          <a:solidFill>
            <a:srgbClr val="f2f2f2"/>
          </a:solidFill>
          <a:ln w="4248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to corrente posseduto in Grecia il cui saldo al 31 dicembre del periodo d’imposta 2008 è pari a 100.000 euro che viene utilizzato nel corso del 2009 per l’acquisto di titoli azionari per un ammontare pari a 40.000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ttangolo 14"/>
          <p:cNvSpPr/>
          <p:nvPr/>
        </p:nvSpPr>
        <p:spPr>
          <a:xfrm>
            <a:off x="488880" y="2708280"/>
            <a:ext cx="8928000" cy="361800"/>
          </a:xfrm>
          <a:prstGeom prst="rect">
            <a:avLst/>
          </a:prstGeom>
          <a:solidFill>
            <a:srgbClr val="f2f2f2"/>
          </a:solidFill>
          <a:ln w="4248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Arial"/>
              </a:rPr>
              <a:t>Il quadro RW del modello Unico-PF deve essere così compila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Immagine 13" descr="Sez_2_2r.jpg"/>
          <p:cNvPicPr/>
          <p:nvPr/>
        </p:nvPicPr>
        <p:blipFill>
          <a:blip r:embed="rId1"/>
          <a:stretch/>
        </p:blipFill>
        <p:spPr>
          <a:xfrm>
            <a:off x="344520" y="3213000"/>
            <a:ext cx="9217080" cy="1225800"/>
          </a:xfrm>
          <a:prstGeom prst="rect">
            <a:avLst/>
          </a:prstGeom>
          <a:ln w="0">
            <a:noFill/>
          </a:ln>
        </p:spPr>
      </p:pic>
      <p:sp>
        <p:nvSpPr>
          <p:cNvPr id="503" name="CasellaDiTesto 15"/>
          <p:cNvSpPr/>
          <p:nvPr/>
        </p:nvSpPr>
        <p:spPr>
          <a:xfrm>
            <a:off x="2289240" y="3645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0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sellaDiTesto 16"/>
          <p:cNvSpPr/>
          <p:nvPr/>
        </p:nvSpPr>
        <p:spPr>
          <a:xfrm>
            <a:off x="4376880" y="3645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sellaDiTesto 17"/>
          <p:cNvSpPr/>
          <p:nvPr/>
        </p:nvSpPr>
        <p:spPr>
          <a:xfrm>
            <a:off x="6176880" y="3645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6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CasellaDiTesto 18"/>
          <p:cNvSpPr/>
          <p:nvPr/>
        </p:nvSpPr>
        <p:spPr>
          <a:xfrm>
            <a:off x="2289240" y="4076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0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CasellaDiTesto 19"/>
          <p:cNvSpPr/>
          <p:nvPr/>
        </p:nvSpPr>
        <p:spPr>
          <a:xfrm>
            <a:off x="4378320" y="40752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sellaDiTesto 20"/>
          <p:cNvSpPr/>
          <p:nvPr/>
        </p:nvSpPr>
        <p:spPr>
          <a:xfrm>
            <a:off x="6178680" y="40752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4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Immagine 22" descr="Sez_3.jpg"/>
          <p:cNvPicPr/>
          <p:nvPr/>
        </p:nvPicPr>
        <p:blipFill>
          <a:blip r:embed="rId2"/>
          <a:stretch/>
        </p:blipFill>
        <p:spPr>
          <a:xfrm>
            <a:off x="415800" y="4581360"/>
            <a:ext cx="9145800" cy="1241640"/>
          </a:xfrm>
          <a:prstGeom prst="rect">
            <a:avLst/>
          </a:prstGeom>
          <a:ln w="0">
            <a:noFill/>
          </a:ln>
        </p:spPr>
      </p:pic>
      <p:sp>
        <p:nvSpPr>
          <p:cNvPr id="510" name="CasellaDiTesto 23"/>
          <p:cNvSpPr/>
          <p:nvPr/>
        </p:nvSpPr>
        <p:spPr>
          <a:xfrm>
            <a:off x="2144880" y="486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0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CasellaDiTesto 24"/>
          <p:cNvSpPr/>
          <p:nvPr/>
        </p:nvSpPr>
        <p:spPr>
          <a:xfrm>
            <a:off x="2720880" y="486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CasellaDiTesto 25"/>
          <p:cNvSpPr/>
          <p:nvPr/>
        </p:nvSpPr>
        <p:spPr>
          <a:xfrm>
            <a:off x="3511440" y="486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CasellaDiTesto 31"/>
          <p:cNvSpPr/>
          <p:nvPr/>
        </p:nvSpPr>
        <p:spPr>
          <a:xfrm>
            <a:off x="6824520" y="4653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dentificazione del conto di destin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CasellaDiTesto 32"/>
          <p:cNvSpPr/>
          <p:nvPr/>
        </p:nvSpPr>
        <p:spPr>
          <a:xfrm>
            <a:off x="2216160" y="530064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umero di conto corrente del contribuente utilizz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CasellaDiTesto 33"/>
          <p:cNvSpPr/>
          <p:nvPr/>
        </p:nvSpPr>
        <p:spPr>
          <a:xfrm>
            <a:off x="5097600" y="53737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ata dell’oper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CasellaDiTesto 34"/>
          <p:cNvSpPr/>
          <p:nvPr/>
        </p:nvSpPr>
        <p:spPr>
          <a:xfrm>
            <a:off x="7688160" y="5445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4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ttangolo 35"/>
          <p:cNvSpPr/>
          <p:nvPr/>
        </p:nvSpPr>
        <p:spPr>
          <a:xfrm>
            <a:off x="488880" y="5950080"/>
            <a:ext cx="90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00000"/>
                </a:solidFill>
                <a:latin typeface="Arial"/>
              </a:rPr>
              <a:t>Non è necessario, invece, indicare il disinvestimento di 40.000 euro del c/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2"/>
          <p:cNvSpPr/>
          <p:nvPr/>
        </p:nvSpPr>
        <p:spPr>
          <a:xfrm>
            <a:off x="523800" y="142920"/>
            <a:ext cx="8858160" cy="714240"/>
          </a:xfrm>
          <a:prstGeom prst="rect">
            <a:avLst/>
          </a:prstGeom>
          <a:solidFill>
            <a:srgbClr val="ffffff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Verdana"/>
                <a:ea typeface="Verdana"/>
              </a:rPr>
              <a:t>Quadro RW – C/C all’est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Immagine 29" descr="logo.png"/>
          <p:cNvPicPr/>
          <p:nvPr/>
        </p:nvPicPr>
        <p:blipFill>
          <a:blip r:embed="rId3"/>
          <a:stretch/>
        </p:blipFill>
        <p:spPr>
          <a:xfrm>
            <a:off x="6465960" y="260280"/>
            <a:ext cx="2774880" cy="432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Connettore 1 8"/>
          <p:cNvSpPr/>
          <p:nvPr/>
        </p:nvSpPr>
        <p:spPr>
          <a:xfrm>
            <a:off x="633240" y="1844640"/>
            <a:ext cx="1008360" cy="0"/>
          </a:xfrm>
          <a:prstGeom prst="line">
            <a:avLst/>
          </a:prstGeom>
          <a:ln w="3816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Connettore 1 9"/>
          <p:cNvSpPr/>
          <p:nvPr/>
        </p:nvSpPr>
        <p:spPr>
          <a:xfrm>
            <a:off x="633240" y="1195560"/>
            <a:ext cx="0" cy="649080"/>
          </a:xfrm>
          <a:prstGeom prst="line">
            <a:avLst/>
          </a:prstGeom>
          <a:ln w="3816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ttangolo arrotondato 10"/>
          <p:cNvSpPr/>
          <p:nvPr/>
        </p:nvSpPr>
        <p:spPr>
          <a:xfrm>
            <a:off x="488880" y="981000"/>
            <a:ext cx="6408720" cy="4078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4248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Arial"/>
              </a:rPr>
              <a:t>Conto corrente in Francia di un neoresidente in 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ttangolo 11"/>
          <p:cNvSpPr/>
          <p:nvPr/>
        </p:nvSpPr>
        <p:spPr>
          <a:xfrm>
            <a:off x="1065240" y="1484280"/>
            <a:ext cx="8351640" cy="1584360"/>
          </a:xfrm>
          <a:prstGeom prst="rect">
            <a:avLst/>
          </a:prstGeom>
          <a:solidFill>
            <a:srgbClr val="f2f2f2"/>
          </a:solidFill>
          <a:ln w="4248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ichelle Volpin è residente in Francia fino a tutto il 2008 e, nei primi mesi del 2009, trasferisce la residenza a Mil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Per l’anno 2009 deve indicare lo stock esistente al 31 dicembre 2009 (per ipotesi euro 200.000), nonché gli eventuali movimenti che sono avvenuti nel co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ttangolo 12"/>
          <p:cNvSpPr/>
          <p:nvPr/>
        </p:nvSpPr>
        <p:spPr>
          <a:xfrm>
            <a:off x="488880" y="3357720"/>
            <a:ext cx="8928000" cy="360360"/>
          </a:xfrm>
          <a:prstGeom prst="rect">
            <a:avLst/>
          </a:prstGeom>
          <a:solidFill>
            <a:srgbClr val="f2f2f2"/>
          </a:solidFill>
          <a:ln w="4248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Arial"/>
              </a:rPr>
              <a:t>Il quadro RW del modello Unico-PF deve essere così compila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Immagine 13" descr="Sez_2_2r.jpg"/>
          <p:cNvPicPr/>
          <p:nvPr/>
        </p:nvPicPr>
        <p:blipFill>
          <a:blip r:embed="rId1"/>
          <a:stretch/>
        </p:blipFill>
        <p:spPr>
          <a:xfrm>
            <a:off x="344520" y="4222800"/>
            <a:ext cx="9217080" cy="1225440"/>
          </a:xfrm>
          <a:prstGeom prst="rect">
            <a:avLst/>
          </a:prstGeom>
          <a:ln w="0">
            <a:noFill/>
          </a:ln>
        </p:spPr>
      </p:pic>
      <p:sp>
        <p:nvSpPr>
          <p:cNvPr id="526" name="CasellaDiTesto 15"/>
          <p:cNvSpPr/>
          <p:nvPr/>
        </p:nvSpPr>
        <p:spPr>
          <a:xfrm>
            <a:off x="2289240" y="46544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0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CasellaDiTesto 16"/>
          <p:cNvSpPr/>
          <p:nvPr/>
        </p:nvSpPr>
        <p:spPr>
          <a:xfrm>
            <a:off x="4376880" y="46544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CasellaDiTesto 17"/>
          <p:cNvSpPr/>
          <p:nvPr/>
        </p:nvSpPr>
        <p:spPr>
          <a:xfrm>
            <a:off x="6176880" y="46544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20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egnaposto numero diapositiva 2"/>
          <p:cNvSpPr/>
          <p:nvPr/>
        </p:nvSpPr>
        <p:spPr>
          <a:xfrm>
            <a:off x="9410760" y="6492960"/>
            <a:ext cx="495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3D37-664E-41CF-ABE7-659EF6457168}" type="slidenum">
              <a:rPr b="1" lang="en-US" sz="12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22"/>
          <p:cNvSpPr/>
          <p:nvPr/>
        </p:nvSpPr>
        <p:spPr>
          <a:xfrm>
            <a:off x="523800" y="142920"/>
            <a:ext cx="8858160" cy="714240"/>
          </a:xfrm>
          <a:prstGeom prst="rect">
            <a:avLst/>
          </a:prstGeom>
          <a:solidFill>
            <a:srgbClr val="ffffff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Verdana"/>
                <a:ea typeface="Verdana"/>
              </a:rPr>
              <a:t>Quadro RW – C/C all’est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Immagine 18" descr="logo.png"/>
          <p:cNvPicPr/>
          <p:nvPr/>
        </p:nvPicPr>
        <p:blipFill>
          <a:blip r:embed="rId2"/>
          <a:stretch/>
        </p:blipFill>
        <p:spPr>
          <a:xfrm>
            <a:off x="6465960" y="260280"/>
            <a:ext cx="2774880" cy="432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Connettore 1 8"/>
          <p:cNvSpPr/>
          <p:nvPr/>
        </p:nvSpPr>
        <p:spPr>
          <a:xfrm>
            <a:off x="633240" y="1844640"/>
            <a:ext cx="1008360" cy="0"/>
          </a:xfrm>
          <a:prstGeom prst="line">
            <a:avLst/>
          </a:prstGeom>
          <a:ln w="3816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Connettore 1 9"/>
          <p:cNvSpPr/>
          <p:nvPr/>
        </p:nvSpPr>
        <p:spPr>
          <a:xfrm>
            <a:off x="633240" y="1195560"/>
            <a:ext cx="0" cy="649080"/>
          </a:xfrm>
          <a:prstGeom prst="line">
            <a:avLst/>
          </a:prstGeom>
          <a:ln w="3816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ttangolo arrotondato 10"/>
          <p:cNvSpPr/>
          <p:nvPr/>
        </p:nvSpPr>
        <p:spPr>
          <a:xfrm>
            <a:off x="488880" y="981000"/>
            <a:ext cx="6408720" cy="4078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4248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Arial"/>
              </a:rPr>
              <a:t>Conto corrente in Spag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ttangolo 11"/>
          <p:cNvSpPr/>
          <p:nvPr/>
        </p:nvSpPr>
        <p:spPr>
          <a:xfrm>
            <a:off x="1065240" y="1484280"/>
            <a:ext cx="8351640" cy="1728720"/>
          </a:xfrm>
          <a:prstGeom prst="rect">
            <a:avLst/>
          </a:prstGeom>
          <a:solidFill>
            <a:srgbClr val="f2f2f2"/>
          </a:solidFill>
          <a:ln w="4248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 contribuente residente in Italia detiene al 31.12.2009 in Spagna un c/c con un saldo di € 82.000,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fatti, nel corso del 2009 ha effettuato un trasferimento dal c/c spagnolo al c/c italiano della somma di € 80.000,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ntro il 31.12.2009 non sono state effettuate altre movimentazioni, oltre all’accredito degli interessi attivi per un ammontare di € 2.000,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ttangolo 12"/>
          <p:cNvSpPr/>
          <p:nvPr/>
        </p:nvSpPr>
        <p:spPr>
          <a:xfrm>
            <a:off x="560520" y="3284640"/>
            <a:ext cx="8928000" cy="360360"/>
          </a:xfrm>
          <a:prstGeom prst="rect">
            <a:avLst/>
          </a:prstGeom>
          <a:solidFill>
            <a:srgbClr val="f2f2f2"/>
          </a:solidFill>
          <a:ln w="4248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Segue -&gt; </a:t>
            </a:r>
            <a:r>
              <a:rPr b="1" i="1" lang="it-IT" sz="1800" spc="-1" strike="noStrike">
                <a:solidFill>
                  <a:srgbClr val="ff0000"/>
                </a:solidFill>
                <a:latin typeface="Arial"/>
              </a:rPr>
              <a:t>Il quadro RW del modello Unico-PF deve essere così compila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Immagine 31" descr="Sez_3.jpg"/>
          <p:cNvPicPr/>
          <p:nvPr/>
        </p:nvPicPr>
        <p:blipFill>
          <a:blip r:embed="rId1"/>
          <a:stretch/>
        </p:blipFill>
        <p:spPr>
          <a:xfrm>
            <a:off x="415800" y="4724280"/>
            <a:ext cx="9145800" cy="1241640"/>
          </a:xfrm>
          <a:prstGeom prst="rect">
            <a:avLst/>
          </a:prstGeom>
          <a:ln w="0">
            <a:noFill/>
          </a:ln>
        </p:spPr>
      </p:pic>
      <p:sp>
        <p:nvSpPr>
          <p:cNvPr id="538" name="CasellaDiTesto 32"/>
          <p:cNvSpPr/>
          <p:nvPr/>
        </p:nvSpPr>
        <p:spPr>
          <a:xfrm>
            <a:off x="2144880" y="5013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0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CasellaDiTesto 34"/>
          <p:cNvSpPr/>
          <p:nvPr/>
        </p:nvSpPr>
        <p:spPr>
          <a:xfrm>
            <a:off x="2720880" y="50115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CasellaDiTesto 35"/>
          <p:cNvSpPr/>
          <p:nvPr/>
        </p:nvSpPr>
        <p:spPr>
          <a:xfrm>
            <a:off x="3511440" y="50115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CasellaDiTesto 36"/>
          <p:cNvSpPr/>
          <p:nvPr/>
        </p:nvSpPr>
        <p:spPr>
          <a:xfrm>
            <a:off x="4303800" y="501156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tremi / d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CasellaDiTesto 37"/>
          <p:cNvSpPr/>
          <p:nvPr/>
        </p:nvSpPr>
        <p:spPr>
          <a:xfrm>
            <a:off x="6824520" y="4940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tremi / d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CasellaDiTesto 38"/>
          <p:cNvSpPr/>
          <p:nvPr/>
        </p:nvSpPr>
        <p:spPr>
          <a:xfrm>
            <a:off x="2287440" y="558792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tr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CasellaDiTesto 39"/>
          <p:cNvSpPr/>
          <p:nvPr/>
        </p:nvSpPr>
        <p:spPr>
          <a:xfrm>
            <a:off x="5095800" y="5443560"/>
            <a:ext cx="22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ata trasferimento fon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CasellaDiTesto 40"/>
          <p:cNvSpPr/>
          <p:nvPr/>
        </p:nvSpPr>
        <p:spPr>
          <a:xfrm>
            <a:off x="7688160" y="55879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8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CasellaDiTesto 41"/>
          <p:cNvSpPr/>
          <p:nvPr/>
        </p:nvSpPr>
        <p:spPr>
          <a:xfrm>
            <a:off x="631800" y="5950080"/>
            <a:ext cx="87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240" indent="-6332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00000"/>
                </a:solidFill>
                <a:latin typeface="Arial"/>
              </a:rPr>
              <a:t>N.B.: gli interessi attivi percepiti devono essere indicati a rigo RM12 del mod. UNICO 2010 P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Immagine 28" descr="Sez_2.jpg"/>
          <p:cNvPicPr/>
          <p:nvPr/>
        </p:nvPicPr>
        <p:blipFill>
          <a:blip r:embed="rId2"/>
          <a:stretch/>
        </p:blipFill>
        <p:spPr>
          <a:xfrm>
            <a:off x="344520" y="3789360"/>
            <a:ext cx="9083520" cy="792000"/>
          </a:xfrm>
          <a:prstGeom prst="rect">
            <a:avLst/>
          </a:prstGeom>
          <a:ln w="0">
            <a:noFill/>
          </a:ln>
        </p:spPr>
      </p:pic>
      <p:sp>
        <p:nvSpPr>
          <p:cNvPr id="548" name="CasellaDiTesto 33"/>
          <p:cNvSpPr/>
          <p:nvPr/>
        </p:nvSpPr>
        <p:spPr>
          <a:xfrm>
            <a:off x="2217600" y="422280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0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CasellaDiTesto 42"/>
          <p:cNvSpPr/>
          <p:nvPr/>
        </p:nvSpPr>
        <p:spPr>
          <a:xfrm>
            <a:off x="4305240" y="42228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CasellaDiTesto 43"/>
          <p:cNvSpPr/>
          <p:nvPr/>
        </p:nvSpPr>
        <p:spPr>
          <a:xfrm>
            <a:off x="6105600" y="42228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82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egnaposto numero diapositiva 2"/>
          <p:cNvSpPr/>
          <p:nvPr/>
        </p:nvSpPr>
        <p:spPr>
          <a:xfrm>
            <a:off x="9410760" y="6492960"/>
            <a:ext cx="495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EFFB-611A-409D-B4D1-1DA52BC1D18B}" type="slidenum">
              <a:rPr b="1" lang="en-US" sz="12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22"/>
          <p:cNvSpPr/>
          <p:nvPr/>
        </p:nvSpPr>
        <p:spPr>
          <a:xfrm>
            <a:off x="523800" y="142920"/>
            <a:ext cx="8858160" cy="714240"/>
          </a:xfrm>
          <a:prstGeom prst="rect">
            <a:avLst/>
          </a:prstGeom>
          <a:solidFill>
            <a:srgbClr val="ffffff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Verdana"/>
                <a:ea typeface="Verdana"/>
              </a:rPr>
              <a:t>Quadro RW – C/C all’est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Immagine 23" descr="logo.png"/>
          <p:cNvPicPr/>
          <p:nvPr/>
        </p:nvPicPr>
        <p:blipFill>
          <a:blip r:embed="rId3"/>
          <a:stretch/>
        </p:blipFill>
        <p:spPr>
          <a:xfrm>
            <a:off x="6465960" y="260280"/>
            <a:ext cx="2774880" cy="432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Connettore 1 8"/>
          <p:cNvSpPr/>
          <p:nvPr/>
        </p:nvSpPr>
        <p:spPr>
          <a:xfrm>
            <a:off x="633240" y="1844640"/>
            <a:ext cx="1008360" cy="0"/>
          </a:xfrm>
          <a:prstGeom prst="line">
            <a:avLst/>
          </a:prstGeom>
          <a:ln w="3816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Connettore 1 9"/>
          <p:cNvSpPr/>
          <p:nvPr/>
        </p:nvSpPr>
        <p:spPr>
          <a:xfrm>
            <a:off x="633240" y="1195560"/>
            <a:ext cx="0" cy="649080"/>
          </a:xfrm>
          <a:prstGeom prst="line">
            <a:avLst/>
          </a:prstGeom>
          <a:ln w="3816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ttangolo arrotondato 10"/>
          <p:cNvSpPr/>
          <p:nvPr/>
        </p:nvSpPr>
        <p:spPr>
          <a:xfrm>
            <a:off x="488880" y="981000"/>
            <a:ext cx="6408720" cy="4078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4248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Arial"/>
              </a:rPr>
              <a:t>Conto corrente a Pan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ttangolo 11"/>
          <p:cNvSpPr/>
          <p:nvPr/>
        </p:nvSpPr>
        <p:spPr>
          <a:xfrm>
            <a:off x="1065240" y="1484280"/>
            <a:ext cx="8351640" cy="936720"/>
          </a:xfrm>
          <a:prstGeom prst="rect">
            <a:avLst/>
          </a:prstGeom>
          <a:solidFill>
            <a:srgbClr val="f2f2f2"/>
          </a:solidFill>
          <a:ln w="4248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 contribuente residente in Italia nel corso del 2009 ha aperto un conto corrente a Panama versando euro 200.000,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ttangolo 12"/>
          <p:cNvSpPr/>
          <p:nvPr/>
        </p:nvSpPr>
        <p:spPr>
          <a:xfrm>
            <a:off x="488880" y="2637000"/>
            <a:ext cx="8928000" cy="360360"/>
          </a:xfrm>
          <a:prstGeom prst="rect">
            <a:avLst/>
          </a:prstGeom>
          <a:solidFill>
            <a:srgbClr val="f2f2f2"/>
          </a:solidFill>
          <a:ln w="4248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Segue -&gt; </a:t>
            </a:r>
            <a:r>
              <a:rPr b="1" i="1" lang="it-IT" sz="1800" spc="-1" strike="noStrike">
                <a:solidFill>
                  <a:srgbClr val="ff0000"/>
                </a:solidFill>
                <a:latin typeface="Arial"/>
              </a:rPr>
              <a:t>Il quadro RW del modello Unico-PF deve essere così compila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Immagine 31" descr="Sez_3.jpg"/>
          <p:cNvPicPr/>
          <p:nvPr/>
        </p:nvPicPr>
        <p:blipFill>
          <a:blip r:embed="rId1"/>
          <a:stretch/>
        </p:blipFill>
        <p:spPr>
          <a:xfrm>
            <a:off x="415800" y="4149720"/>
            <a:ext cx="9145800" cy="1241280"/>
          </a:xfrm>
          <a:prstGeom prst="rect">
            <a:avLst/>
          </a:prstGeom>
          <a:ln w="0">
            <a:noFill/>
          </a:ln>
        </p:spPr>
      </p:pic>
      <p:sp>
        <p:nvSpPr>
          <p:cNvPr id="560" name="CasellaDiTesto 32"/>
          <p:cNvSpPr/>
          <p:nvPr/>
        </p:nvSpPr>
        <p:spPr>
          <a:xfrm>
            <a:off x="2144880" y="44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0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CasellaDiTesto 34"/>
          <p:cNvSpPr/>
          <p:nvPr/>
        </p:nvSpPr>
        <p:spPr>
          <a:xfrm>
            <a:off x="2720880" y="44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CasellaDiTesto 35"/>
          <p:cNvSpPr/>
          <p:nvPr/>
        </p:nvSpPr>
        <p:spPr>
          <a:xfrm>
            <a:off x="3511440" y="44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CasellaDiTesto 36"/>
          <p:cNvSpPr/>
          <p:nvPr/>
        </p:nvSpPr>
        <p:spPr>
          <a:xfrm>
            <a:off x="4303800" y="443700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tremi / d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CasellaDiTesto 37"/>
          <p:cNvSpPr/>
          <p:nvPr/>
        </p:nvSpPr>
        <p:spPr>
          <a:xfrm>
            <a:off x="6824520" y="4365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tremi / d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CasellaDiTesto 38"/>
          <p:cNvSpPr/>
          <p:nvPr/>
        </p:nvSpPr>
        <p:spPr>
          <a:xfrm>
            <a:off x="2287440" y="501336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tr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CasellaDiTesto 39"/>
          <p:cNvSpPr/>
          <p:nvPr/>
        </p:nvSpPr>
        <p:spPr>
          <a:xfrm>
            <a:off x="5095800" y="4869000"/>
            <a:ext cx="22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ata trasferimento fon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CasellaDiTesto 40"/>
          <p:cNvSpPr/>
          <p:nvPr/>
        </p:nvSpPr>
        <p:spPr>
          <a:xfrm>
            <a:off x="7688160" y="5013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20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CasellaDiTesto 41"/>
          <p:cNvSpPr/>
          <p:nvPr/>
        </p:nvSpPr>
        <p:spPr>
          <a:xfrm>
            <a:off x="704880" y="5661000"/>
            <a:ext cx="87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240" indent="-6332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00000"/>
                </a:solidFill>
                <a:latin typeface="Arial"/>
              </a:rPr>
              <a:t>N.B.: si rammenta che poiché Panama è un Paese in “black list”, gli interessi devono essere dichiarati in Italia per trasparen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Immagine 28" descr="Sez_2.jpg"/>
          <p:cNvPicPr/>
          <p:nvPr/>
        </p:nvPicPr>
        <p:blipFill>
          <a:blip r:embed="rId2"/>
          <a:stretch/>
        </p:blipFill>
        <p:spPr>
          <a:xfrm>
            <a:off x="344520" y="3213000"/>
            <a:ext cx="9083520" cy="792360"/>
          </a:xfrm>
          <a:prstGeom prst="rect">
            <a:avLst/>
          </a:prstGeom>
          <a:ln w="0">
            <a:noFill/>
          </a:ln>
        </p:spPr>
      </p:pic>
      <p:sp>
        <p:nvSpPr>
          <p:cNvPr id="570" name="CasellaDiTesto 33"/>
          <p:cNvSpPr/>
          <p:nvPr/>
        </p:nvSpPr>
        <p:spPr>
          <a:xfrm>
            <a:off x="2217600" y="364644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0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CasellaDiTesto 42"/>
          <p:cNvSpPr/>
          <p:nvPr/>
        </p:nvSpPr>
        <p:spPr>
          <a:xfrm>
            <a:off x="4305240" y="36464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CasellaDiTesto 43"/>
          <p:cNvSpPr/>
          <p:nvPr/>
        </p:nvSpPr>
        <p:spPr>
          <a:xfrm>
            <a:off x="6105600" y="36464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20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egnaposto numero diapositiva 2"/>
          <p:cNvSpPr/>
          <p:nvPr/>
        </p:nvSpPr>
        <p:spPr>
          <a:xfrm>
            <a:off x="9410760" y="6492960"/>
            <a:ext cx="495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2E4E-5CAA-46FB-A249-734078FC9205}" type="slidenum">
              <a:rPr b="1" lang="en-US" sz="12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22"/>
          <p:cNvSpPr/>
          <p:nvPr/>
        </p:nvSpPr>
        <p:spPr>
          <a:xfrm>
            <a:off x="523800" y="142920"/>
            <a:ext cx="8858160" cy="714240"/>
          </a:xfrm>
          <a:prstGeom prst="rect">
            <a:avLst/>
          </a:prstGeom>
          <a:solidFill>
            <a:srgbClr val="ffffff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Verdana"/>
                <a:ea typeface="Verdana"/>
              </a:rPr>
              <a:t>Quadro RW – C/C all’est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Immagine 23" descr="logo.png"/>
          <p:cNvPicPr/>
          <p:nvPr/>
        </p:nvPicPr>
        <p:blipFill>
          <a:blip r:embed="rId3"/>
          <a:stretch/>
        </p:blipFill>
        <p:spPr>
          <a:xfrm>
            <a:off x="6465960" y="260280"/>
            <a:ext cx="2774880" cy="432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Connettore 1 8"/>
          <p:cNvSpPr/>
          <p:nvPr/>
        </p:nvSpPr>
        <p:spPr>
          <a:xfrm>
            <a:off x="633240" y="1844640"/>
            <a:ext cx="1008360" cy="0"/>
          </a:xfrm>
          <a:prstGeom prst="line">
            <a:avLst/>
          </a:prstGeom>
          <a:ln w="3816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Connettore 1 9"/>
          <p:cNvSpPr/>
          <p:nvPr/>
        </p:nvSpPr>
        <p:spPr>
          <a:xfrm>
            <a:off x="633240" y="1195560"/>
            <a:ext cx="0" cy="649080"/>
          </a:xfrm>
          <a:prstGeom prst="line">
            <a:avLst/>
          </a:prstGeom>
          <a:ln w="3816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ttangolo arrotondato 10"/>
          <p:cNvSpPr/>
          <p:nvPr/>
        </p:nvSpPr>
        <p:spPr>
          <a:xfrm>
            <a:off x="488880" y="981000"/>
            <a:ext cx="6408720" cy="4078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4248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Arial"/>
              </a:rPr>
              <a:t>Conto corrente in Svizz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ttangolo 11"/>
          <p:cNvSpPr/>
          <p:nvPr/>
        </p:nvSpPr>
        <p:spPr>
          <a:xfrm>
            <a:off x="1065240" y="1484280"/>
            <a:ext cx="8351640" cy="1081080"/>
          </a:xfrm>
          <a:prstGeom prst="rect">
            <a:avLst/>
          </a:prstGeom>
          <a:solidFill>
            <a:srgbClr val="f2f2f2"/>
          </a:solidFill>
          <a:ln w="4248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 contribuente residente in Italia ha acceso, nel mese di settembre 2009, un c/c presso una banca svizzera depositando euro 30.000,00. Alla fine dell’anno il saldo è pari a euro 29.900,00, in quanto sono stati accreditati gli interessi al netto delle spe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ttangolo 12"/>
          <p:cNvSpPr/>
          <p:nvPr/>
        </p:nvSpPr>
        <p:spPr>
          <a:xfrm>
            <a:off x="488880" y="3284640"/>
            <a:ext cx="8928000" cy="360360"/>
          </a:xfrm>
          <a:prstGeom prst="rect">
            <a:avLst/>
          </a:prstGeom>
          <a:solidFill>
            <a:srgbClr val="f2f2f2"/>
          </a:solidFill>
          <a:ln w="4248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Segue -&gt; </a:t>
            </a:r>
            <a:r>
              <a:rPr b="1" i="1" lang="it-IT" sz="1800" spc="-1" strike="noStrike">
                <a:solidFill>
                  <a:srgbClr val="ff0000"/>
                </a:solidFill>
                <a:latin typeface="Arial"/>
              </a:rPr>
              <a:t>Il quadro RW del modello Unico-PF deve essere così compila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Immagine 31" descr="Sez_3.jpg"/>
          <p:cNvPicPr/>
          <p:nvPr/>
        </p:nvPicPr>
        <p:blipFill>
          <a:blip r:embed="rId1"/>
          <a:stretch/>
        </p:blipFill>
        <p:spPr>
          <a:xfrm>
            <a:off x="344520" y="5157720"/>
            <a:ext cx="9145440" cy="1241640"/>
          </a:xfrm>
          <a:prstGeom prst="rect">
            <a:avLst/>
          </a:prstGeom>
          <a:ln w="0">
            <a:noFill/>
          </a:ln>
        </p:spPr>
      </p:pic>
      <p:sp>
        <p:nvSpPr>
          <p:cNvPr id="582" name="CasellaDiTesto 32"/>
          <p:cNvSpPr/>
          <p:nvPr/>
        </p:nvSpPr>
        <p:spPr>
          <a:xfrm>
            <a:off x="2073240" y="5445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0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CasellaDiTesto 34"/>
          <p:cNvSpPr/>
          <p:nvPr/>
        </p:nvSpPr>
        <p:spPr>
          <a:xfrm>
            <a:off x="2649600" y="5445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CasellaDiTesto 35"/>
          <p:cNvSpPr/>
          <p:nvPr/>
        </p:nvSpPr>
        <p:spPr>
          <a:xfrm>
            <a:off x="3440160" y="5445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CasellaDiTesto 36"/>
          <p:cNvSpPr/>
          <p:nvPr/>
        </p:nvSpPr>
        <p:spPr>
          <a:xfrm>
            <a:off x="4232160" y="544500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tremi / d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CasellaDiTesto 37"/>
          <p:cNvSpPr/>
          <p:nvPr/>
        </p:nvSpPr>
        <p:spPr>
          <a:xfrm>
            <a:off x="6753240" y="5373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tremi / d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CasellaDiTesto 38"/>
          <p:cNvSpPr/>
          <p:nvPr/>
        </p:nvSpPr>
        <p:spPr>
          <a:xfrm>
            <a:off x="2216160" y="602136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tr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CasellaDiTesto 39"/>
          <p:cNvSpPr/>
          <p:nvPr/>
        </p:nvSpPr>
        <p:spPr>
          <a:xfrm>
            <a:off x="5024520" y="5877000"/>
            <a:ext cx="22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ata trasferimento fon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CasellaDiTesto 40"/>
          <p:cNvSpPr/>
          <p:nvPr/>
        </p:nvSpPr>
        <p:spPr>
          <a:xfrm>
            <a:off x="7616880" y="6021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3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Immagine 28" descr="Sez_2.jpg"/>
          <p:cNvPicPr/>
          <p:nvPr/>
        </p:nvPicPr>
        <p:blipFill>
          <a:blip r:embed="rId2"/>
          <a:stretch/>
        </p:blipFill>
        <p:spPr>
          <a:xfrm>
            <a:off x="344520" y="4076640"/>
            <a:ext cx="9083520" cy="792360"/>
          </a:xfrm>
          <a:prstGeom prst="rect">
            <a:avLst/>
          </a:prstGeom>
          <a:ln w="0">
            <a:noFill/>
          </a:ln>
        </p:spPr>
      </p:pic>
      <p:sp>
        <p:nvSpPr>
          <p:cNvPr id="591" name="CasellaDiTesto 33"/>
          <p:cNvSpPr/>
          <p:nvPr/>
        </p:nvSpPr>
        <p:spPr>
          <a:xfrm>
            <a:off x="2217600" y="45100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0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CasellaDiTesto 42"/>
          <p:cNvSpPr/>
          <p:nvPr/>
        </p:nvSpPr>
        <p:spPr>
          <a:xfrm>
            <a:off x="4305240" y="45100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CasellaDiTesto 43"/>
          <p:cNvSpPr/>
          <p:nvPr/>
        </p:nvSpPr>
        <p:spPr>
          <a:xfrm>
            <a:off x="6105600" y="45100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29.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egnaposto numero diapositiva 2"/>
          <p:cNvSpPr/>
          <p:nvPr/>
        </p:nvSpPr>
        <p:spPr>
          <a:xfrm>
            <a:off x="9410760" y="6492960"/>
            <a:ext cx="495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2BCA-DEB8-45B1-A36F-F978F6F813A8}" type="slidenum">
              <a:rPr b="1" lang="en-US" sz="12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2"/>
          <p:cNvSpPr/>
          <p:nvPr/>
        </p:nvSpPr>
        <p:spPr>
          <a:xfrm>
            <a:off x="523800" y="142920"/>
            <a:ext cx="8858160" cy="714240"/>
          </a:xfrm>
          <a:prstGeom prst="rect">
            <a:avLst/>
          </a:prstGeom>
          <a:solidFill>
            <a:srgbClr val="ffffff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Verdana"/>
                <a:ea typeface="Verdana"/>
              </a:rPr>
              <a:t>Quadro RW – C/C all’est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Immagine 23" descr="logo.png"/>
          <p:cNvPicPr/>
          <p:nvPr/>
        </p:nvPicPr>
        <p:blipFill>
          <a:blip r:embed="rId3"/>
          <a:stretch/>
        </p:blipFill>
        <p:spPr>
          <a:xfrm>
            <a:off x="6465960" y="260280"/>
            <a:ext cx="2774880" cy="432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1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ttangolo arrotondato 10"/>
          <p:cNvSpPr/>
          <p:nvPr/>
        </p:nvSpPr>
        <p:spPr>
          <a:xfrm>
            <a:off x="488880" y="981000"/>
            <a:ext cx="6408720" cy="4078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4248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Arial"/>
              </a:rPr>
              <a:t>Sintesi c/c este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egnaposto numero diapositiva 2"/>
          <p:cNvSpPr/>
          <p:nvPr/>
        </p:nvSpPr>
        <p:spPr>
          <a:xfrm>
            <a:off x="9410760" y="6492960"/>
            <a:ext cx="495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A5D5-8A7E-4A24-9A83-CF5AED21E7B3}" type="slidenum">
              <a:rPr b="1" lang="en-US" sz="12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ttangolo 22"/>
          <p:cNvSpPr/>
          <p:nvPr/>
        </p:nvSpPr>
        <p:spPr>
          <a:xfrm>
            <a:off x="488880" y="1844640"/>
            <a:ext cx="4608720" cy="914400"/>
          </a:xfrm>
          <a:prstGeom prst="rect">
            <a:avLst/>
          </a:prstGeom>
          <a:solidFill>
            <a:srgbClr val="eaeaea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nto corrente estero fruttif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reccia a destra con strisce 23"/>
          <p:cNvSpPr/>
          <p:nvPr/>
        </p:nvSpPr>
        <p:spPr>
          <a:xfrm>
            <a:off x="5097600" y="2133720"/>
            <a:ext cx="977760" cy="484200"/>
          </a:xfrm>
          <a:custGeom>
            <a:avLst/>
            <a:gdLst>
              <a:gd name="textAreaLeft" fmla="*/ 75600 w 977760"/>
              <a:gd name="textAreaRight" fmla="*/ 856800 w 97776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977900" h="484188">
                <a:moveTo>
                  <a:pt x="0" y="121047"/>
                </a:moveTo>
                <a:lnTo>
                  <a:pt x="15131" y="121047"/>
                </a:lnTo>
                <a:lnTo>
                  <a:pt x="15131" y="363141"/>
                </a:lnTo>
                <a:lnTo>
                  <a:pt x="0" y="363141"/>
                </a:lnTo>
                <a:close/>
                <a:moveTo>
                  <a:pt x="30262" y="121047"/>
                </a:moveTo>
                <a:lnTo>
                  <a:pt x="60524" y="121047"/>
                </a:lnTo>
                <a:lnTo>
                  <a:pt x="60524" y="363141"/>
                </a:lnTo>
                <a:lnTo>
                  <a:pt x="30262" y="363141"/>
                </a:lnTo>
                <a:close/>
                <a:moveTo>
                  <a:pt x="75654" y="121047"/>
                </a:moveTo>
                <a:lnTo>
                  <a:pt x="735806" y="121047"/>
                </a:lnTo>
                <a:lnTo>
                  <a:pt x="735806" y="0"/>
                </a:lnTo>
                <a:lnTo>
                  <a:pt x="977900" y="242094"/>
                </a:lnTo>
                <a:lnTo>
                  <a:pt x="735806" y="484188"/>
                </a:lnTo>
                <a:lnTo>
                  <a:pt x="735806" y="363141"/>
                </a:lnTo>
                <a:lnTo>
                  <a:pt x="75654" y="363141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ttangolo 24"/>
          <p:cNvSpPr/>
          <p:nvPr/>
        </p:nvSpPr>
        <p:spPr>
          <a:xfrm>
            <a:off x="6105600" y="1916280"/>
            <a:ext cx="3311280" cy="914400"/>
          </a:xfrm>
          <a:prstGeom prst="rect">
            <a:avLst/>
          </a:prstGeom>
          <a:solidFill>
            <a:srgbClr val="eaeaea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bbligo di segnal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ttangolo 25"/>
          <p:cNvSpPr/>
          <p:nvPr/>
        </p:nvSpPr>
        <p:spPr>
          <a:xfrm>
            <a:off x="488880" y="3429000"/>
            <a:ext cx="4608720" cy="914400"/>
          </a:xfrm>
          <a:prstGeom prst="rect">
            <a:avLst/>
          </a:prstGeom>
          <a:solidFill>
            <a:srgbClr val="eaeaea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nto corrente estero infruttif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reccia a destra con strisce 26"/>
          <p:cNvSpPr/>
          <p:nvPr/>
        </p:nvSpPr>
        <p:spPr>
          <a:xfrm>
            <a:off x="5097600" y="3716280"/>
            <a:ext cx="977760" cy="486000"/>
          </a:xfrm>
          <a:custGeom>
            <a:avLst/>
            <a:gdLst>
              <a:gd name="textAreaLeft" fmla="*/ 75600 w 977760"/>
              <a:gd name="textAreaRight" fmla="*/ 856440 w 97776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977900" h="485775">
                <a:moveTo>
                  <a:pt x="0" y="121444"/>
                </a:moveTo>
                <a:lnTo>
                  <a:pt x="15180" y="121444"/>
                </a:lnTo>
                <a:lnTo>
                  <a:pt x="15180" y="364331"/>
                </a:lnTo>
                <a:lnTo>
                  <a:pt x="0" y="364331"/>
                </a:lnTo>
                <a:close/>
                <a:moveTo>
                  <a:pt x="30361" y="121444"/>
                </a:moveTo>
                <a:lnTo>
                  <a:pt x="60722" y="121444"/>
                </a:lnTo>
                <a:lnTo>
                  <a:pt x="60722" y="364331"/>
                </a:lnTo>
                <a:lnTo>
                  <a:pt x="30361" y="364331"/>
                </a:lnTo>
                <a:close/>
                <a:moveTo>
                  <a:pt x="75902" y="121444"/>
                </a:moveTo>
                <a:lnTo>
                  <a:pt x="735013" y="121444"/>
                </a:lnTo>
                <a:lnTo>
                  <a:pt x="735013" y="0"/>
                </a:lnTo>
                <a:lnTo>
                  <a:pt x="977900" y="242888"/>
                </a:lnTo>
                <a:lnTo>
                  <a:pt x="735013" y="485775"/>
                </a:lnTo>
                <a:lnTo>
                  <a:pt x="735013" y="364331"/>
                </a:lnTo>
                <a:lnTo>
                  <a:pt x="75902" y="364331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ttangolo 27"/>
          <p:cNvSpPr/>
          <p:nvPr/>
        </p:nvSpPr>
        <p:spPr>
          <a:xfrm>
            <a:off x="6105600" y="3500280"/>
            <a:ext cx="3311280" cy="914400"/>
          </a:xfrm>
          <a:prstGeom prst="rect">
            <a:avLst/>
          </a:prstGeom>
          <a:solidFill>
            <a:srgbClr val="eaeaea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bbligo di segnala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(Circ. 49/2009 p. 2.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ttangolo 29"/>
          <p:cNvSpPr/>
          <p:nvPr/>
        </p:nvSpPr>
        <p:spPr>
          <a:xfrm>
            <a:off x="488880" y="5013360"/>
            <a:ext cx="4608720" cy="914400"/>
          </a:xfrm>
          <a:prstGeom prst="rect">
            <a:avLst/>
          </a:prstGeom>
          <a:solidFill>
            <a:srgbClr val="eaeaea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nto corrente estero fruttifero, con bonifico in Italia degli interessi e tassazione da parte banca itali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ccia a destra con strisce 30"/>
          <p:cNvSpPr/>
          <p:nvPr/>
        </p:nvSpPr>
        <p:spPr>
          <a:xfrm>
            <a:off x="5097600" y="5300640"/>
            <a:ext cx="977760" cy="485640"/>
          </a:xfrm>
          <a:custGeom>
            <a:avLst/>
            <a:gdLst>
              <a:gd name="textAreaLeft" fmla="*/ 75600 w 977760"/>
              <a:gd name="textAreaRight" fmla="*/ 856440 w 97776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977900" h="485775">
                <a:moveTo>
                  <a:pt x="0" y="121444"/>
                </a:moveTo>
                <a:lnTo>
                  <a:pt x="15180" y="121444"/>
                </a:lnTo>
                <a:lnTo>
                  <a:pt x="15180" y="364331"/>
                </a:lnTo>
                <a:lnTo>
                  <a:pt x="0" y="364331"/>
                </a:lnTo>
                <a:close/>
                <a:moveTo>
                  <a:pt x="30361" y="121444"/>
                </a:moveTo>
                <a:lnTo>
                  <a:pt x="60722" y="121444"/>
                </a:lnTo>
                <a:lnTo>
                  <a:pt x="60722" y="364331"/>
                </a:lnTo>
                <a:lnTo>
                  <a:pt x="30361" y="364331"/>
                </a:lnTo>
                <a:close/>
                <a:moveTo>
                  <a:pt x="75902" y="121444"/>
                </a:moveTo>
                <a:lnTo>
                  <a:pt x="735013" y="121444"/>
                </a:lnTo>
                <a:lnTo>
                  <a:pt x="735013" y="0"/>
                </a:lnTo>
                <a:lnTo>
                  <a:pt x="977900" y="242888"/>
                </a:lnTo>
                <a:lnTo>
                  <a:pt x="735013" y="485775"/>
                </a:lnTo>
                <a:lnTo>
                  <a:pt x="735013" y="364331"/>
                </a:lnTo>
                <a:lnTo>
                  <a:pt x="75902" y="364331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ttangolo 44"/>
          <p:cNvSpPr/>
          <p:nvPr/>
        </p:nvSpPr>
        <p:spPr>
          <a:xfrm>
            <a:off x="6105600" y="5084640"/>
            <a:ext cx="3311280" cy="914400"/>
          </a:xfrm>
          <a:prstGeom prst="rect">
            <a:avLst/>
          </a:prstGeom>
          <a:solidFill>
            <a:srgbClr val="eaeaea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on sussiste obbligo di segnala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(Circ. 54/2002 p. 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22"/>
          <p:cNvSpPr/>
          <p:nvPr/>
        </p:nvSpPr>
        <p:spPr>
          <a:xfrm>
            <a:off x="523800" y="142920"/>
            <a:ext cx="8858160" cy="714240"/>
          </a:xfrm>
          <a:prstGeom prst="rect">
            <a:avLst/>
          </a:prstGeom>
          <a:solidFill>
            <a:srgbClr val="ffffff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Verdana"/>
                <a:ea typeface="Verdana"/>
              </a:rPr>
              <a:t>Quadro RW – C/C all’est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Immagine 14" descr="logo.png"/>
          <p:cNvPicPr/>
          <p:nvPr/>
        </p:nvPicPr>
        <p:blipFill>
          <a:blip r:embed="rId1"/>
          <a:stretch/>
        </p:blipFill>
        <p:spPr>
          <a:xfrm>
            <a:off x="6465960" y="260280"/>
            <a:ext cx="2774880" cy="432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4T07:46:30Z</dcterms:created>
  <dc:creator>Giancarlo Modolo</dc:creator>
  <dc:description/>
  <dc:language>en-US</dc:language>
  <cp:lastModifiedBy>Giancarlo</cp:lastModifiedBy>
  <dcterms:modified xsi:type="dcterms:W3CDTF">2010-10-08T10:24:44Z</dcterms:modified>
  <cp:revision>256</cp:revision>
  <dc:subject/>
  <dc:title>Diapositiva 1</dc:title>
</cp:coreProperties>
</file>