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057A-5730-456A-BAF8-2B78335208E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1301-803C-43EE-988C-0C1EAD25996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BC52-A560-451F-813E-0DC613174A4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CA4A-58F3-4C8B-BF34-37A01BE49EC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5FB-6FD9-4C46-A2E6-F704AD66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E1AC-8654-4A89-B009-18C86256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ECD7B-275C-489B-8F34-A746245B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29EA5-59B0-4344-9C36-405FAC73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71757-34D1-4944-B4FE-FF79794F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C86B8-E008-44A7-9B9B-B88894FC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88877-0800-40F9-B371-FE1F52FF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13A63-CCB8-48BA-8408-8871A000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C4FEF-CDA4-4FF5-A1E8-278C853E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7D66D-352C-4297-AE8B-E7D15183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1700E-DFC6-40EF-BD06-09AD5856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0A50E-F6C4-46B6-BF11-426941F3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252-408A-459C-8EA1-6EBC931A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FB652-266A-496B-82D5-EB2E28F8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CCF9B-63D6-43DF-B1BC-0C068536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227B8-ED23-446F-BBD0-EB2D735C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DC3A8-7817-4459-8BC4-C42BC0A4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4214C-409B-4975-BA7B-BCDDF641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3E1D5-C0A5-409D-A9B6-1B614F33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57113-7E68-4F5C-AE2A-A13A1E53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05623-4DDB-4B4A-8310-84DDCC36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5FA74-A8F8-44D7-8D42-16D657DB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9B381-A105-43C2-A701-A204CCA4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2C7-5EDB-4A63-9FBD-655B1AAA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243D7-94FD-4AE8-95A1-A2BB74C2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B6691-9554-47BC-8148-7F2B5E55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5315B-A172-439E-B284-50F9774B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77D3A-00CB-435C-BCC4-F4E4077D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B7C1B-61B8-4DF9-AB6E-AD2B9A7E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44717-7CCD-45DC-BCC6-47405434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08796-9E08-48B8-8330-45118EF6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45DF0-67E9-491D-BD74-614DC76B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AF7A6-D40F-4403-9A5B-0B956766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97E38-04F0-49A9-A740-FF4B32AC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B3B8-5004-43E9-9B8A-4B7280AD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35502-D0E6-4668-8421-0C54E29A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8237C-4CD0-414E-AD09-46B181C7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321CC-57B3-4E32-A08B-E6F399CA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168B-1120-4B7C-987F-A0E98A64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E0DD-EA80-4C24-BB29-22C16DF8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2694-A0C1-478A-AF96-6A844F91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77DB-F471-4738-87F8-C1F5EE11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3059-109F-48C6-8ECF-061AC8FC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0A54-CEFE-455A-B170-11C4CB04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5DB-E48A-4AE4-8243-3FC9C4B2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36A9-10B6-4AF9-954D-E9FCB38B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B661-79A9-4D22-903C-F3747249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3C92-AA44-442D-B223-BD298940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30B1-D96D-46A9-9E00-73AB3C18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437D-5564-48DB-AFDC-F3EBF7EC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802D1-4DA6-4CB6-BC55-B2DCCBCB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84086-4E52-4D9C-A778-79281CB8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F2F9C-0401-4AFE-8F0A-0D9BFC1F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00C8A-3E16-4F6B-B2ED-8092DE38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5F602-4423-484A-88A2-AA1E417B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106-581C-4949-84AA-CB7D0F59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3B2F2-C69B-46AE-8E1E-BBF67F67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25142-0DE2-42DD-921D-B24F43A9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1AFDD-BB3A-44C2-91DC-67A45731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955D2-5B02-4037-9C0A-1A9249E6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79B31-6B07-407B-8295-FDECAA72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FB884-CB02-486F-A822-3BA012AF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1FDBB-BA38-4981-A395-785710D9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9C5F9-1B25-46CC-AEEF-A3F9B63E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E1D98-5BEC-4843-AFA0-0221C572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CE61A-E1A1-4241-890D-B6DD2AC9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8BD-533B-42BF-9EAF-3A620817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0EEFF-7B14-4C3D-B7C5-816F98E4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4D8DC-15B3-4379-9E5A-DA9FEC6D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64F1C-6921-4B8F-8EA6-4C156728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1251C-E460-45AF-8B5D-6CCBC586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F5ACF-6E12-49FA-B647-7FFDDBDF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7C1AA-1A80-45DB-B607-86FAC1ED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7D01A-2066-4999-B4ED-819AE1D0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3DBEE-34C2-4868-A204-2BEAFBD8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91000-3E84-4883-A7E1-16710AAE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EB55C-708E-4183-A3DF-C0460795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A72-2F08-4E0E-880E-5C4DD46A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A6A5C-4A5F-47FD-8424-6427BC33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B0717-7A39-4876-96BA-7AB3CFA2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F32A9-E358-4EE3-8ACB-C4F92265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CD6BF-1385-4572-A5BB-E1B08D78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25D61-EEFD-4990-AF3E-E69A5965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56585-CF77-4E1C-B548-19E2EFCA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9F5A6-0CCE-4D86-9A39-DA6E41F8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0176B-8392-4830-A6CD-787BD46A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B7980-266E-47FC-A9FC-EE45E86B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73396-2F5C-4682-AD71-DD48A7A0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373-F7F6-47E9-B80C-301894B9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DE016-A9F9-44C9-9296-A5746A0B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2E154-0436-4053-830F-B958A945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B4D24-81B2-4D0D-973D-BB10DA65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FBA5C-90AE-4C46-9146-8D8EB427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E8F0B-DF92-4C27-BA36-9B493B28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02E07-105E-459D-8492-9FAB1C47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3FD4B-BD08-40A8-850D-33C45579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F9182-E6AA-4A6F-A5CD-4527CFBE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38F8D-1A2D-4AC6-AFB0-09C3825D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41DDD-2F82-42D2-93D5-2D2C0B70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A44-CB1B-48BD-9FC1-F18CD9F2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E7B34-3EA6-4C94-A38C-EC2143B6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42484-6912-4536-8E92-A98CFA56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868E6-7AAE-41BF-A86A-A4C10B35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86C10-319D-4879-9715-9553D825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9D84E-AEAD-4D5C-8768-196CA538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CC767-B98F-4FE7-BECC-F844EC3D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9EDBF-FACC-4AF1-8DE0-E57F0DBB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736C7-DC3F-4F28-9843-58D88379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99128-5D4D-4E2A-B8DA-AB184B81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4E226-F756-4C89-9B78-16090816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2EBF-E996-4C1F-9703-DBA6C709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35161-8649-4019-BE56-5AFF4C59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D0B68-F8AF-463B-BB2C-80212391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DFA8E-C24C-433F-8450-507EDEF3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89123-3D13-4899-A26F-013E09FA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BAC25-13FF-42B0-82D1-5811FD62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EA5B3-DF75-49A1-9038-45109CA5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CF0B2-B23F-46A9-AB4B-FB2217F9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62B69-5D75-47A8-99EE-1CF1A0E7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4C98B-EB0C-4019-8749-01ECE7B1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C8235-A6D6-48F5-8F72-EB2AC927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C22F-7387-4F45-A1CC-2CD45230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44680" y="4986000"/>
            <a:ext cx="88660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8CD96-5B29-417F-843C-3920B5BB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145DA-141E-4CDB-A16B-3951A03C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817D5-C53A-4CA9-B70D-69DEEA96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207A8-3FC2-40EB-8DCF-0F808ACC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4680" y="2717280"/>
            <a:ext cx="88660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7E8CC-99F0-46C1-A448-AE8BB094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087880" y="52992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46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087880" y="2717280"/>
            <a:ext cx="4326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A7F96-546F-4465-8F47-9151D216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76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540480" y="52992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446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76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540480" y="2717280"/>
            <a:ext cx="28548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B4F80-A166-44FB-BCE0-F228B20D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E15EC-3AC5-4EA6-AACC-60473B3E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0D847-DC95-454F-B67F-C6ED15BF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46CE3-C3EE-4852-B6A6-C2E84A8F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22A1-0D6A-4A4D-BEEC-B5E74927FBA9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www.studiomodolo.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6E9F-88F3-437F-902B-34900AA3D2A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ttangolo arrotondato 9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rrotonda singolo angolo rettangolo 10"/>
          <p:cNvSpPr/>
          <p:nvPr/>
        </p:nvSpPr>
        <p:spPr>
          <a:xfrm>
            <a:off x="6934320" y="433440"/>
            <a:ext cx="2517480" cy="4343400"/>
          </a:xfrm>
          <a:custGeom>
            <a:avLst/>
            <a:gdLst>
              <a:gd name="textAreaLeft" fmla="*/ 0 w 2517480"/>
              <a:gd name="textAreaRight" fmla="*/ 2497320 w 251748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517775" h="4343400">
                <a:moveTo>
                  <a:pt x="0" y="0"/>
                </a:moveTo>
                <a:lnTo>
                  <a:pt x="2448587" y="0"/>
                </a:lnTo>
                <a:lnTo>
                  <a:pt x="2448587" y="0"/>
                </a:lnTo>
                <a:arcTo wR="69188" hR="69188" stAng="-5400000" swAng="5400000"/>
                <a:lnTo>
                  <a:pt x="251777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9363-1713-4345-A3FE-522CFA3822AD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tudiomodolo.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6E71-902B-4D8F-B8AA-803BACC08F1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ttangolo arrotondato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Rettangolo arrotondato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447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1F49-99C4-4901-A658-189F746F38DA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tudiomodolo.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7BA6-6065-4807-B992-0E35801E98B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44600" y="426960"/>
            <a:ext cx="9016920" cy="3121200"/>
            <a:chOff x="444600" y="426960"/>
            <a:chExt cx="901692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95360" y="476280"/>
              <a:ext cx="891540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8F6C-2E34-4A87-B70F-969621E1496E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tudiomodolo.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F37F-6E85-4576-A46B-3804402503F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9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9DB4-858F-4105-A187-62ED2B6E3693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tudiomodolo.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B80E-6E68-474B-B6E3-56F0FBF6709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Rettangolo arrotondato 10"/>
          <p:cNvGrpSpPr/>
          <p:nvPr/>
        </p:nvGrpSpPr>
        <p:grpSpPr>
          <a:xfrm>
            <a:off x="444600" y="426960"/>
            <a:ext cx="9016920" cy="4353120"/>
            <a:chOff x="444600" y="426960"/>
            <a:chExt cx="9016920" cy="4353120"/>
          </a:xfrm>
        </p:grpSpPr>
        <p:pic>
          <p:nvPicPr>
            <p:cNvPr id="13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80960" y="461880"/>
              <a:ext cx="894420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BC73-A493-487A-9317-A329A61323C4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tudiomodolo.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8B38-38CA-46F3-B0B0-BA3C482FEE3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ttangolo arrotondato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Rettangolo arrotondato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18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44E2-B417-4B79-9AE8-29F4F35D67DA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tudiomodolo.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318E-B313-477C-AA1C-15717A72E9F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ttangolo arrotondato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Rettangolo arrotondato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227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7BDC-1BBB-473C-9164-2308CE4A6834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tudiomodolo.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E05D-22EB-4AF9-8B85-C1525D8690E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ttangolo arrotondato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Rettangolo arrotondato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27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92B9-596D-4FBF-B9CF-0C343B31C19D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tudiomodolo.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DBB0-43E2-4EF1-8FBB-FF499910486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ttangolo arrotondato 9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CA2F-B4DF-4E27-974A-09573C927736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tudiomodolo.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E017-CAE7-4F8E-BF9D-BF6D830F655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ttangolo arrotondato 6"/>
          <p:cNvSpPr/>
          <p:nvPr/>
        </p:nvSpPr>
        <p:spPr>
          <a:xfrm>
            <a:off x="330120" y="328680"/>
            <a:ext cx="92426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Rettangolo arrotondato 8"/>
          <p:cNvGrpSpPr/>
          <p:nvPr/>
        </p:nvGrpSpPr>
        <p:grpSpPr>
          <a:xfrm>
            <a:off x="444600" y="426960"/>
            <a:ext cx="9016920" cy="5497560"/>
            <a:chOff x="444600" y="426960"/>
            <a:chExt cx="9016920" cy="5497560"/>
          </a:xfrm>
        </p:grpSpPr>
        <p:pic>
          <p:nvPicPr>
            <p:cNvPr id="359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44600" y="426960"/>
              <a:ext cx="901692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87440" y="468360"/>
              <a:ext cx="893124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4680" y="4986000"/>
            <a:ext cx="88660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44680" y="529920"/>
            <a:ext cx="8866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409068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E737-0B19-4EDF-A131-16A9D271F2E8}" type="datetime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567120" y="6111360"/>
            <a:ext cx="2476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tudiomodolo.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9043920" y="611136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20FA-F2D6-4899-8B13-89F27B9061E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Segnaposto piè di pagina 1"/>
          <p:cNvSpPr/>
          <p:nvPr/>
        </p:nvSpPr>
        <p:spPr>
          <a:xfrm>
            <a:off x="0" y="5789520"/>
            <a:ext cx="17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74d26"/>
                </a:solidFill>
                <a:latin typeface="Arial"/>
              </a:rPr>
              <a:t>www.studiomodol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Segnaposto testo 15"/>
          <p:cNvGrpSpPr/>
          <p:nvPr/>
        </p:nvGrpSpPr>
        <p:grpSpPr>
          <a:xfrm>
            <a:off x="-19080" y="-365040"/>
            <a:ext cx="9937800" cy="7229520"/>
            <a:chOff x="-19080" y="-365040"/>
            <a:chExt cx="9937800" cy="7229520"/>
          </a:xfrm>
        </p:grpSpPr>
        <p:pic>
          <p:nvPicPr>
            <p:cNvPr id="499" name="Segnaposto testo 15" descr=""/>
            <p:cNvPicPr/>
            <p:nvPr/>
          </p:nvPicPr>
          <p:blipFill>
            <a:blip r:embed="rId1"/>
            <a:stretch/>
          </p:blipFill>
          <p:spPr>
            <a:xfrm>
              <a:off x="-19080" y="-365040"/>
              <a:ext cx="9937800" cy="722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0" y="-345960"/>
              <a:ext cx="9906120" cy="72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en-US" sz="100" spc="-1" strike="noStrike">
                  <a:solidFill>
                    <a:srgbClr val="a7a399"/>
                  </a:solidFill>
                  <a:latin typeface="Arial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1" name="Image.jpg" descr=""/>
          <p:cNvPicPr/>
          <p:nvPr/>
        </p:nvPicPr>
        <p:blipFill>
          <a:blip r:embed="rId2"/>
          <a:stretch/>
        </p:blipFill>
        <p:spPr>
          <a:xfrm>
            <a:off x="0" y="-428760"/>
            <a:ext cx="9906120" cy="7286760"/>
          </a:xfrm>
          <a:prstGeom prst="rect">
            <a:avLst/>
          </a:prstGeom>
          <a:ln w="0">
            <a:noFill/>
          </a:ln>
        </p:spPr>
      </p:pic>
      <p:grpSp>
        <p:nvGrpSpPr>
          <p:cNvPr id="502" name="Titolo 2"/>
          <p:cNvGrpSpPr/>
          <p:nvPr/>
        </p:nvGrpSpPr>
        <p:grpSpPr>
          <a:xfrm>
            <a:off x="927000" y="566640"/>
            <a:ext cx="9234720" cy="2200320"/>
            <a:chOff x="927000" y="566640"/>
            <a:chExt cx="9234720" cy="2200320"/>
          </a:xfrm>
        </p:grpSpPr>
        <p:pic>
          <p:nvPicPr>
            <p:cNvPr id="503" name="Titolo 2" descr=""/>
            <p:cNvPicPr/>
            <p:nvPr/>
          </p:nvPicPr>
          <p:blipFill>
            <a:blip r:embed="rId3"/>
            <a:stretch/>
          </p:blipFill>
          <p:spPr>
            <a:xfrm>
              <a:off x="927000" y="566640"/>
              <a:ext cx="923472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1263600" y="825480"/>
              <a:ext cx="819648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ff"/>
                  </a:solidFill>
                  <a:latin typeface="Arial"/>
                </a:rPr>
                <a:t>QUADRO RW: </a:t>
              </a:r>
              <a:r>
                <a:rPr b="1" i="1" lang="it-IT" sz="2800" spc="-1" strike="noStrike">
                  <a:solidFill>
                    <a:srgbClr val="ffffff"/>
                  </a:solidFill>
                  <a:latin typeface="Arial"/>
                </a:rPr>
                <a:t>CASI DI COMPILAZIO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anche in relazione alla valutazione per l’eventuale dichiarazione integrativa da presentare entro i 90 giorni successivi alla scadenza del termine per l’adempimento dichiarati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5" name="Picture 8" descr="BS00554_"/>
          <p:cNvPicPr/>
          <p:nvPr/>
        </p:nvPicPr>
        <p:blipFill>
          <a:blip r:embed="rId4"/>
          <a:stretch/>
        </p:blipFill>
        <p:spPr>
          <a:xfrm>
            <a:off x="988920" y="4079880"/>
            <a:ext cx="1730520" cy="1889280"/>
          </a:xfrm>
          <a:prstGeom prst="rect">
            <a:avLst/>
          </a:prstGeom>
          <a:ln w="0">
            <a:noFill/>
          </a:ln>
        </p:spPr>
      </p:pic>
      <p:sp>
        <p:nvSpPr>
          <p:cNvPr id="506" name="Sottotitolo 5"/>
          <p:cNvSpPr/>
          <p:nvPr/>
        </p:nvSpPr>
        <p:spPr>
          <a:xfrm>
            <a:off x="0" y="6629400"/>
            <a:ext cx="990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080" rIns="104040" tIns="0" bIns="52200" anchor="b">
            <a:noAutofit/>
          </a:bodyPr>
          <a:p>
            <a:pPr marL="41400" algn="ctr">
              <a:lnSpc>
                <a:spcPct val="25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it-IT" sz="1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it-IT" sz="1000" spc="-1" strike="noStrike">
                <a:solidFill>
                  <a:srgbClr val="111165"/>
                </a:solidFill>
                <a:latin typeface="Arial"/>
              </a:rPr>
              <a:t>N.B.: l’elaborazione dei testi, anche se curata con scrupolosa attenzione, non può comportare specifiche responsabilità per eventuali errori e/o inesattezz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ottotitolo 5"/>
          <p:cNvSpPr/>
          <p:nvPr/>
        </p:nvSpPr>
        <p:spPr>
          <a:xfrm>
            <a:off x="5221440" y="4754520"/>
            <a:ext cx="47386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080" rIns="104040" tIns="0" bIns="52200" anchor="ctr">
            <a:noAutofit/>
          </a:bodyPr>
          <a:p>
            <a:pPr marL="41400" algn="ctr">
              <a:lnSpc>
                <a:spcPct val="25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i="1" lang="it-IT" sz="1400" spc="-1" strike="noStrike">
                <a:solidFill>
                  <a:srgbClr val="111165"/>
                </a:solidFill>
                <a:latin typeface="Arial"/>
              </a:rPr>
              <a:t>www.studiomodolo.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Immagine 8" descr="logo.png"/>
          <p:cNvPicPr/>
          <p:nvPr/>
        </p:nvPicPr>
        <p:blipFill>
          <a:blip r:embed="rId5"/>
          <a:stretch/>
        </p:blipFill>
        <p:spPr>
          <a:xfrm>
            <a:off x="5745240" y="5300640"/>
            <a:ext cx="3711600" cy="777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2"/>
          <p:cNvSpPr/>
          <p:nvPr/>
        </p:nvSpPr>
        <p:spPr>
          <a:xfrm>
            <a:off x="452520" y="142920"/>
            <a:ext cx="9072360" cy="50004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Quadro RW – casi di compi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Immagine 12" descr="logo.png"/>
          <p:cNvPicPr/>
          <p:nvPr/>
        </p:nvPicPr>
        <p:blipFill>
          <a:blip r:embed="rId1"/>
          <a:stretch/>
        </p:blipFill>
        <p:spPr>
          <a:xfrm>
            <a:off x="6753240" y="189000"/>
            <a:ext cx="2774880" cy="43164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4"/>
          <p:cNvSpPr/>
          <p:nvPr/>
        </p:nvSpPr>
        <p:spPr>
          <a:xfrm>
            <a:off x="560520" y="2925720"/>
            <a:ext cx="8858160" cy="459720"/>
          </a:xfrm>
          <a:prstGeom prst="rect">
            <a:avLst/>
          </a:prstGeom>
          <a:noFill/>
          <a:ln w="648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Conto corrente all’es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560520" y="2278080"/>
            <a:ext cx="8858160" cy="459720"/>
          </a:xfrm>
          <a:prstGeom prst="rect">
            <a:avLst/>
          </a:prstGeom>
          <a:noFill/>
          <a:ln w="648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spetti gene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60520" y="5014800"/>
            <a:ext cx="8858160" cy="459720"/>
          </a:xfrm>
          <a:prstGeom prst="rect">
            <a:avLst/>
          </a:prstGeom>
          <a:noFill/>
          <a:ln w="648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tock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560520" y="4294080"/>
            <a:ext cx="8858160" cy="459720"/>
          </a:xfrm>
          <a:prstGeom prst="rect">
            <a:avLst/>
          </a:prstGeom>
          <a:noFill/>
          <a:ln w="648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olizze est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560520" y="5734080"/>
            <a:ext cx="8858160" cy="459720"/>
          </a:xfrm>
          <a:prstGeom prst="rect">
            <a:avLst/>
          </a:prstGeom>
          <a:noFill/>
          <a:ln w="648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mmobili all’es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560520" y="3573360"/>
            <a:ext cx="8858160" cy="459720"/>
          </a:xfrm>
          <a:prstGeom prst="rect">
            <a:avLst/>
          </a:prstGeom>
          <a:noFill/>
          <a:ln w="648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artecipazioni in società non resi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CasellaDiTesto 11"/>
          <p:cNvSpPr/>
          <p:nvPr/>
        </p:nvSpPr>
        <p:spPr>
          <a:xfrm>
            <a:off x="344520" y="1341360"/>
            <a:ext cx="92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00000"/>
                </a:solidFill>
                <a:latin typeface="Verdana"/>
              </a:rPr>
              <a:t>Argo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7"/>
          <p:cNvSpPr/>
          <p:nvPr/>
        </p:nvSpPr>
        <p:spPr>
          <a:xfrm>
            <a:off x="3809880" y="1143000"/>
            <a:ext cx="56800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ff0000"/>
                </a:solidFill>
                <a:latin typeface="Arial"/>
              </a:rPr>
              <a:t>Graz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ff0000"/>
                </a:solidFill>
                <a:latin typeface="Arial"/>
              </a:rPr>
              <a:t>per l’attenzione prest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" descr="G:\clipart\big_Business 031 Cs.jpg"/>
          <p:cNvPicPr/>
          <p:nvPr/>
        </p:nvPicPr>
        <p:blipFill>
          <a:blip r:embed="rId1"/>
          <a:stretch/>
        </p:blipFill>
        <p:spPr>
          <a:xfrm>
            <a:off x="523800" y="1643040"/>
            <a:ext cx="3571920" cy="3514680"/>
          </a:xfrm>
          <a:prstGeom prst="rect">
            <a:avLst/>
          </a:prstGeom>
          <a:ln w="0">
            <a:noFill/>
          </a:ln>
        </p:spPr>
      </p:pic>
      <p:pic>
        <p:nvPicPr>
          <p:cNvPr id="520" name="Immagine 3" descr="logo.png"/>
          <p:cNvPicPr/>
          <p:nvPr/>
        </p:nvPicPr>
        <p:blipFill>
          <a:blip r:embed="rId2"/>
          <a:stretch/>
        </p:blipFill>
        <p:spPr>
          <a:xfrm>
            <a:off x="5240160" y="5589720"/>
            <a:ext cx="3711600" cy="776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07:46:30Z</dcterms:created>
  <dc:creator>Giancarlo Modolo</dc:creator>
  <dc:description/>
  <dc:language>en-US</dc:language>
  <cp:lastModifiedBy>Giancarlo</cp:lastModifiedBy>
  <dcterms:modified xsi:type="dcterms:W3CDTF">2010-10-08T10:18:54Z</dcterms:modified>
  <cp:revision>589</cp:revision>
  <dc:subject/>
  <dc:title>Diapositiva 1</dc:title>
</cp:coreProperties>
</file>