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64E-FBD4-42C5-9750-D2F08A6D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1B3-4376-4B37-A853-D733F655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788-1475-455E-B330-4CAF1586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4E6-22F4-4029-B769-9F396C36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8AF-DE88-4F17-8268-F885705F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911-28AB-4ED0-A260-21A88ADD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615-D867-493C-B6CA-A2B4F2BD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A7D-384C-4170-BED8-E51CA9D3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2C8-93D2-43FE-A378-87D43841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EEF-B4E7-48A4-9896-772EF554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FDF-9A26-4683-BF08-AA425519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748-FA38-4171-9809-D48AFDFC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D2E6-3817-446C-9C7C-237C48FA7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scoetasse.it/index.ph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free.fbox.it/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rebuchet MS"/>
              </a:rPr>
              <a:t>FBox </a:t>
            </a:r>
            <a:br>
              <a:rPr sz="4000"/>
            </a:b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Servizio professionale per lo scambio di fi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e utilizzare  F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Fisco e Tasse.com - La tua guida per un fisco semplic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1268280"/>
            <a:ext cx="23623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sso 6: Accesso ai file invi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7200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Cliccando sul link, il mittente verrà inviato alla sua pagina FBox, dalla quale potrà scaricare il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70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Per scaricare il file, cliccare sull’icona      ,       per cancellarlo cliccare su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4824360" cy="361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68360" y="1628640"/>
            <a:ext cx="5689440" cy="115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V="1">
            <a:off x="2987640" y="3068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8101080" y="5157720"/>
            <a:ext cx="253800" cy="228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8101080" y="4437000"/>
            <a:ext cx="241200" cy="241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2349360"/>
            <a:ext cx="50328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971640" y="2708280"/>
            <a:ext cx="590544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sso 7: Scaricamento di più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895640" cy="3671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508720" y="1844280"/>
            <a:ext cx="3106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Con FBox è possibile scaricare più file contemporaneamente,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selezionando i file desiderati e cliccando sull’ic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FBox creerà un file archivio .zip, contenente tutti i file selezion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7020000" y="3357720"/>
            <a:ext cx="482400" cy="444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27640" y="4437000"/>
            <a:ext cx="28728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716360" y="2276640"/>
            <a:ext cx="93528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2565360"/>
            <a:ext cx="2592360" cy="180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211280" y="3715920"/>
            <a:ext cx="1368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F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FBox è un servizio pensato per le aziende o i professionisti che devono rendere disponibili ai propri collaboratori numerosi file, anche di grandi dimensioni come documenti amministrativi, progetti, file grafici, foto, filmat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a velocità di caricamento e scaricamento dei file dipende dalla banda che tu hai a disposizione. Una linea ADSL a 2 M bit/sec consente di scaricare un file da 100 Mega in circa 7 minu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Fbox è anche un archivio ad autenticazione, i tuoi file non sono mai cancellati automaticamente e vengono salvati ogni giorno su sistemi di Back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Passo 1: Accesso a F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5256000" cy="4527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84720" y="1557360"/>
            <a:ext cx="2813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Aprire un Browser web come Internet Explorer o Firefox e digitare l’indirizzo 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free.fbox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ella schermata di accesso al servizio, digitare negli appositi campi: username, password e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codice ditt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Cliccare su “Accedi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sso 2: Configurazione Ut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84720" y="1600200"/>
            <a:ext cx="26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Dalla schermata principale di FBox entrare nella sezione dedicata alla gestione degli utenti cliccando la voce di menù “Utenti”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539892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sso 2: Configurazione Ut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Per la creazione di un nuovo utente, cliccare sul bottone “Crea”, sulla destra della pagina. In questo modo sia accederà alla pagina per l’inserimento dei dati dell’u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00000" y="1484280"/>
            <a:ext cx="7201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sso 2: Configurazione U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Compilare il form con tutti i dati dell’utente, facendo attenzione a non omettere i campi contrassegnati con l’asteris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Cliccare su “Salva”, per tornare alla schermata di Gestione Utenti e memorizzare l’U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019160" y="1600200"/>
            <a:ext cx="3265560" cy="244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932360" y="1628640"/>
            <a:ext cx="3456000" cy="2355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>
            <a:off x="3276720" y="2707920"/>
            <a:ext cx="165564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sso 3: Invio di uno o più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72360" y="1600200"/>
            <a:ext cx="25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ornare nel Menù “Lista File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lezionare dal menu a tendina l’utente a cui si vuole inviare il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prire in formato ridotto la finestra di esplora risorse contenente i file che si vogliono invi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971640" y="1628640"/>
            <a:ext cx="5184720" cy="388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27280" y="3068640"/>
            <a:ext cx="720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2060640"/>
            <a:ext cx="2665080" cy="25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sso 3: Invio di uno o più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00360" y="1599840"/>
            <a:ext cx="25923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rascinare i file nell’apposita finestra “Carica file” a sinistra dello scher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l centro dello schermo verrà visualizzato un messaggio di conferma del trasferimento del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55640" y="1844640"/>
            <a:ext cx="5338800" cy="4003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2340000" y="3141720"/>
            <a:ext cx="273672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067280" y="4005000"/>
            <a:ext cx="2665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sso 4 : Invio di uno o più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8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Dopo aver caricato i file su FBox, è possibile inviare una notifica al destinatario, cliccando sull’ico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Il destinatario riceverà una mail di avviso con un link per lo scaricamento diretto del f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39640" y="1731960"/>
            <a:ext cx="5327640" cy="4162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40000" y="4076640"/>
            <a:ext cx="107964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093080" y="3357720"/>
            <a:ext cx="10159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asso 5: email di notifica al destinatari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Quando il file è stato caricato su FBox ed è stata inviata la notifica, il mittente riceve una mail al suo indirizzo di posta elettro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Cliccando sull’apposito link il mittente può accedere direttamente a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5194080" cy="389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80000" y="3716280"/>
            <a:ext cx="57600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356000" y="3860640"/>
            <a:ext cx="216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4:02:08Z</dcterms:created>
  <dc:creator>g.rutigliano</dc:creator>
  <dc:description/>
  <dc:language>en-US</dc:language>
  <cp:lastModifiedBy>m.sancassani</cp:lastModifiedBy>
  <dcterms:modified xsi:type="dcterms:W3CDTF">2007-09-21T08:01:50Z</dcterms:modified>
  <cp:revision>26</cp:revision>
  <dc:subject/>
  <dc:title>FBox: Servizio scambio file</dc:title>
</cp:coreProperties>
</file>